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E556-8372-481B-9141-9C362F32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C88-3FCC-4201-9331-BD0700DD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FB7-4764-407C-94D1-FFF48CE4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C75-AC0E-4AB4-902D-FA33A294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5A1-01C3-476D-A483-E73D32F7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186-B5A5-4CBB-B99B-2712CB0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142-7C1B-42CA-8F78-8A273C5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429-C4C6-4AF7-8644-ADD7B23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772-A063-48CE-BA05-54900E1A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F54-A38C-4687-BBC6-FB168AA4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420-D85C-4527-AB9B-B7714B5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111-60FE-476B-92D7-FD9B6CA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D55-FE44-45D1-90E8-36FEF28F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548480" y="6078600"/>
            <a:ext cx="587160" cy="716040"/>
            <a:chOff x="7548480" y="6078600"/>
            <a:chExt cx="587160" cy="7160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49271" t="22179" r="0" b="22844"/>
            <a:stretch/>
          </p:blipFill>
          <p:spPr>
            <a:xfrm>
              <a:off x="7562160" y="607860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548480" y="627732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7548480" y="5265720"/>
            <a:ext cx="587160" cy="716040"/>
            <a:chOff x="7548480" y="5265720"/>
            <a:chExt cx="587160" cy="7160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49271" t="22179" r="0" b="22844"/>
            <a:stretch/>
          </p:blipFill>
          <p:spPr>
            <a:xfrm>
              <a:off x="7562160" y="526572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548480" y="546444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7548480" y="4454640"/>
            <a:ext cx="587160" cy="715680"/>
            <a:chOff x="7548480" y="4454640"/>
            <a:chExt cx="587160" cy="71568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49271" t="22179" r="0" b="22844"/>
            <a:stretch/>
          </p:blipFill>
          <p:spPr>
            <a:xfrm>
              <a:off x="7562160" y="4454640"/>
              <a:ext cx="57348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548480" y="4653000"/>
              <a:ext cx="121680" cy="18648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548480" y="3641760"/>
            <a:ext cx="587160" cy="716040"/>
            <a:chOff x="7548480" y="3641760"/>
            <a:chExt cx="587160" cy="716040"/>
          </a:xfrm>
        </p:grpSpPr>
        <p:pic>
          <p:nvPicPr>
            <p:cNvPr id="51" name="" descr=""/>
            <p:cNvPicPr/>
            <p:nvPr/>
          </p:nvPicPr>
          <p:blipFill>
            <a:blip r:embed="rId4"/>
            <a:srcRect l="49271" t="22179" r="0" b="22844"/>
            <a:stretch/>
          </p:blipFill>
          <p:spPr>
            <a:xfrm>
              <a:off x="7562160" y="364176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548480" y="384048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548480" y="2830680"/>
            <a:ext cx="587160" cy="715680"/>
            <a:chOff x="7548480" y="2830680"/>
            <a:chExt cx="587160" cy="715680"/>
          </a:xfrm>
        </p:grpSpPr>
        <p:pic>
          <p:nvPicPr>
            <p:cNvPr id="54" name="" descr=""/>
            <p:cNvPicPr/>
            <p:nvPr/>
          </p:nvPicPr>
          <p:blipFill>
            <a:blip r:embed="rId5"/>
            <a:srcRect l="49271" t="22179" r="0" b="22844"/>
            <a:stretch/>
          </p:blipFill>
          <p:spPr>
            <a:xfrm>
              <a:off x="7562160" y="2830680"/>
              <a:ext cx="573480" cy="71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548480" y="3029040"/>
              <a:ext cx="121680" cy="18648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548480" y="2017800"/>
            <a:ext cx="587160" cy="716040"/>
            <a:chOff x="7548480" y="2017800"/>
            <a:chExt cx="587160" cy="716040"/>
          </a:xfrm>
        </p:grpSpPr>
        <p:pic>
          <p:nvPicPr>
            <p:cNvPr id="57" name="" descr=""/>
            <p:cNvPicPr/>
            <p:nvPr/>
          </p:nvPicPr>
          <p:blipFill>
            <a:blip r:embed="rId6"/>
            <a:srcRect l="49271" t="22179" r="0" b="22844"/>
            <a:stretch/>
          </p:blipFill>
          <p:spPr>
            <a:xfrm>
              <a:off x="7562160" y="201780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548480" y="221652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548480" y="1206360"/>
            <a:ext cx="587160" cy="716040"/>
            <a:chOff x="7548480" y="1206360"/>
            <a:chExt cx="587160" cy="716040"/>
          </a:xfrm>
        </p:grpSpPr>
        <p:pic>
          <p:nvPicPr>
            <p:cNvPr id="60" name="" descr=""/>
            <p:cNvPicPr/>
            <p:nvPr/>
          </p:nvPicPr>
          <p:blipFill>
            <a:blip r:embed="rId7"/>
            <a:srcRect l="49271" t="22179" r="0" b="22844"/>
            <a:stretch/>
          </p:blipFill>
          <p:spPr>
            <a:xfrm>
              <a:off x="7562160" y="120636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548480" y="140508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548480" y="395280"/>
            <a:ext cx="587160" cy="716040"/>
            <a:chOff x="7548480" y="395280"/>
            <a:chExt cx="587160" cy="716040"/>
          </a:xfrm>
        </p:grpSpPr>
        <p:pic>
          <p:nvPicPr>
            <p:cNvPr id="63" name="" descr=""/>
            <p:cNvPicPr/>
            <p:nvPr/>
          </p:nvPicPr>
          <p:blipFill>
            <a:blip r:embed="rId8"/>
            <a:srcRect l="49271" t="22179" r="0" b="22844"/>
            <a:stretch/>
          </p:blipFill>
          <p:spPr>
            <a:xfrm>
              <a:off x="7562160" y="395280"/>
              <a:ext cx="57348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48480" y="594000"/>
              <a:ext cx="121680" cy="186840"/>
            </a:xfrm>
            <a:custGeom>
              <a:avLst/>
              <a:gdLst/>
              <a:ahLst/>
              <a:rect l="l" t="t" r="r" b="b"/>
              <a:pathLst>
                <a:path w="96" h="128">
                  <a:moveTo>
                    <a:pt x="96" y="32"/>
                  </a:moveTo>
                  <a:lnTo>
                    <a:pt x="0" y="128"/>
                  </a:lnTo>
                  <a:lnTo>
                    <a:pt x="0" y="0"/>
                  </a:lnTo>
                  <a:lnTo>
                    <a:pt x="96" y="3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9"/>
          <a:srcRect l="5635" t="15829" r="4226" b="15492"/>
          <a:stretch/>
        </p:blipFill>
        <p:spPr>
          <a:xfrm>
            <a:off x="1155600" y="1373040"/>
            <a:ext cx="3807000" cy="290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3040" y="36360"/>
            <a:ext cx="42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rvo Player – System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26880" y="355680"/>
            <a:ext cx="346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. 8/22/14 BTL (Lightman)       Updated 9/15/14   Rev 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28680" y="2185920"/>
            <a:ext cx="351000" cy="26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36560" y="330192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019160" y="1643040"/>
            <a:ext cx="122256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0640" y="4359240"/>
            <a:ext cx="7232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Not Used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" y="309240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rogrammi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360" y="15066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7.5 VDC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5400" y="4813200"/>
            <a:ext cx="2493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7.5 VDC covers all power needs except servo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parate Servo Power Supply required; Remove jumpers &amp; attach servo power to center p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o Cables contain Signal, +5V, G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eller loads program from EEPROM upon power up; IDE can download progr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 Card contains 2 files 1) Servo Commands, 2) Profile for Servos that have file names both pre-programmed into C code before downloading to Prop Chi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ts can be left hooked up from recorder (not shown in diagram he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6920" y="1225440"/>
            <a:ext cx="16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ropeller Activity 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86760" y="2036880"/>
            <a:ext cx="13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D Card Contai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vo Comm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for Serv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ee Note 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71720" y="2265480"/>
            <a:ext cx="156960" cy="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343160" y="4165200"/>
            <a:ext cx="99684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63720" y="866880"/>
            <a:ext cx="898560" cy="757080"/>
          </a:xfrm>
          <a:custGeom>
            <a:avLst/>
            <a:gdLst/>
            <a:ahLst/>
            <a:rect l="l" t="t" r="r" b="b"/>
            <a:pathLst>
              <a:path w="432" h="423">
                <a:moveTo>
                  <a:pt x="432" y="423"/>
                </a:moveTo>
                <a:cubicBezTo>
                  <a:pt x="424" y="331"/>
                  <a:pt x="416" y="239"/>
                  <a:pt x="390" y="174"/>
                </a:cubicBezTo>
                <a:cubicBezTo>
                  <a:pt x="364" y="109"/>
                  <a:pt x="341" y="59"/>
                  <a:pt x="276" y="30"/>
                </a:cubicBezTo>
                <a:cubicBezTo>
                  <a:pt x="211" y="1"/>
                  <a:pt x="105" y="0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4360" y="1627200"/>
            <a:ext cx="822240" cy="654120"/>
          </a:xfrm>
          <a:custGeom>
            <a:avLst/>
            <a:gdLst/>
            <a:ahLst/>
            <a:rect l="l" t="t" r="r" b="b"/>
            <a:pathLst>
              <a:path w="518" h="412">
                <a:moveTo>
                  <a:pt x="0" y="4"/>
                </a:moveTo>
                <a:cubicBezTo>
                  <a:pt x="4" y="50"/>
                  <a:pt x="6" y="97"/>
                  <a:pt x="21" y="122"/>
                </a:cubicBezTo>
                <a:cubicBezTo>
                  <a:pt x="36" y="148"/>
                  <a:pt x="69" y="161"/>
                  <a:pt x="94" y="161"/>
                </a:cubicBezTo>
                <a:cubicBezTo>
                  <a:pt x="119" y="161"/>
                  <a:pt x="158" y="151"/>
                  <a:pt x="176" y="125"/>
                </a:cubicBezTo>
                <a:cubicBezTo>
                  <a:pt x="194" y="100"/>
                  <a:pt x="199" y="5"/>
                  <a:pt x="207" y="4"/>
                </a:cubicBezTo>
                <a:cubicBezTo>
                  <a:pt x="214" y="3"/>
                  <a:pt x="201" y="94"/>
                  <a:pt x="219" y="119"/>
                </a:cubicBezTo>
                <a:cubicBezTo>
                  <a:pt x="236" y="145"/>
                  <a:pt x="282" y="158"/>
                  <a:pt x="310" y="158"/>
                </a:cubicBezTo>
                <a:cubicBezTo>
                  <a:pt x="337" y="158"/>
                  <a:pt x="368" y="145"/>
                  <a:pt x="386" y="119"/>
                </a:cubicBezTo>
                <a:cubicBezTo>
                  <a:pt x="403" y="94"/>
                  <a:pt x="408" y="8"/>
                  <a:pt x="416" y="4"/>
                </a:cubicBezTo>
                <a:cubicBezTo>
                  <a:pt x="424" y="0"/>
                  <a:pt x="422" y="55"/>
                  <a:pt x="434" y="96"/>
                </a:cubicBezTo>
                <a:cubicBezTo>
                  <a:pt x="446" y="136"/>
                  <a:pt x="474" y="196"/>
                  <a:pt x="488" y="249"/>
                </a:cubicBezTo>
                <a:cubicBezTo>
                  <a:pt x="502" y="302"/>
                  <a:pt x="512" y="378"/>
                  <a:pt x="518" y="41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46440" y="1609560"/>
            <a:ext cx="42840" cy="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0" y="1609560"/>
            <a:ext cx="42840" cy="4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4080" y="160668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56080" y="2190600"/>
            <a:ext cx="815760" cy="443160"/>
          </a:xfrm>
          <a:custGeom>
            <a:avLst/>
            <a:gdLst/>
            <a:ahLst/>
            <a:rect l="l" t="t" r="r" b="b"/>
            <a:pathLst>
              <a:path w="514" h="279">
                <a:moveTo>
                  <a:pt x="0" y="270"/>
                </a:moveTo>
                <a:cubicBezTo>
                  <a:pt x="71" y="274"/>
                  <a:pt x="142" y="279"/>
                  <a:pt x="204" y="248"/>
                </a:cubicBezTo>
                <a:cubicBezTo>
                  <a:pt x="266" y="217"/>
                  <a:pt x="318" y="123"/>
                  <a:pt x="370" y="82"/>
                </a:cubicBezTo>
                <a:cubicBezTo>
                  <a:pt x="422" y="41"/>
                  <a:pt x="468" y="20"/>
                  <a:pt x="514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57640" y="2730600"/>
            <a:ext cx="330120" cy="969840"/>
          </a:xfrm>
          <a:custGeom>
            <a:avLst/>
            <a:gdLst/>
            <a:ahLst/>
            <a:rect l="l" t="t" r="r" b="b"/>
            <a:pathLst>
              <a:path w="208" h="611">
                <a:moveTo>
                  <a:pt x="0" y="611"/>
                </a:moveTo>
                <a:cubicBezTo>
                  <a:pt x="9" y="529"/>
                  <a:pt x="24" y="218"/>
                  <a:pt x="59" y="116"/>
                </a:cubicBezTo>
                <a:cubicBezTo>
                  <a:pt x="94" y="14"/>
                  <a:pt x="177" y="24"/>
                  <a:pt x="20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38640" y="2371680"/>
            <a:ext cx="149040" cy="371520"/>
          </a:xfrm>
          <a:custGeom>
            <a:avLst/>
            <a:gdLst/>
            <a:ahLst/>
            <a:rect l="l" t="t" r="r" b="b"/>
            <a:pathLst>
              <a:path w="94" h="234">
                <a:moveTo>
                  <a:pt x="92" y="0"/>
                </a:moveTo>
                <a:cubicBezTo>
                  <a:pt x="79" y="12"/>
                  <a:pt x="24" y="43"/>
                  <a:pt x="12" y="72"/>
                </a:cubicBezTo>
                <a:cubicBezTo>
                  <a:pt x="0" y="101"/>
                  <a:pt x="6" y="147"/>
                  <a:pt x="20" y="174"/>
                </a:cubicBezTo>
                <a:cubicBezTo>
                  <a:pt x="34" y="201"/>
                  <a:pt x="79" y="222"/>
                  <a:pt x="94" y="23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1000" y="2286000"/>
            <a:ext cx="160560" cy="368280"/>
          </a:xfrm>
          <a:custGeom>
            <a:avLst/>
            <a:gdLst/>
            <a:ahLst/>
            <a:rect l="l" t="t" r="r" b="b"/>
            <a:pathLst>
              <a:path w="101" h="232">
                <a:moveTo>
                  <a:pt x="101" y="0"/>
                </a:moveTo>
                <a:cubicBezTo>
                  <a:pt x="71" y="6"/>
                  <a:pt x="36" y="16"/>
                  <a:pt x="21" y="40"/>
                </a:cubicBezTo>
                <a:cubicBezTo>
                  <a:pt x="6" y="64"/>
                  <a:pt x="0" y="114"/>
                  <a:pt x="13" y="146"/>
                </a:cubicBezTo>
                <a:cubicBezTo>
                  <a:pt x="26" y="178"/>
                  <a:pt x="83" y="214"/>
                  <a:pt x="101" y="23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2517840"/>
            <a:ext cx="819360" cy="41040"/>
          </a:xfrm>
          <a:custGeom>
            <a:avLst/>
            <a:gdLst/>
            <a:ahLst/>
            <a:rect l="l" t="t" r="r" b="b"/>
            <a:pathLst>
              <a:path w="516" h="26">
                <a:moveTo>
                  <a:pt x="0" y="2"/>
                </a:moveTo>
                <a:cubicBezTo>
                  <a:pt x="24" y="1"/>
                  <a:pt x="49" y="0"/>
                  <a:pt x="100" y="0"/>
                </a:cubicBezTo>
                <a:cubicBezTo>
                  <a:pt x="151" y="0"/>
                  <a:pt x="237" y="0"/>
                  <a:pt x="306" y="4"/>
                </a:cubicBezTo>
                <a:cubicBezTo>
                  <a:pt x="375" y="8"/>
                  <a:pt x="445" y="17"/>
                  <a:pt x="516" y="2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0"/>
          <a:srcRect l="83748" t="19091" r="13814" b="74348"/>
          <a:stretch/>
        </p:blipFill>
        <p:spPr>
          <a:xfrm>
            <a:off x="4703760" y="2154240"/>
            <a:ext cx="103320" cy="277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rcRect l="83748" t="19091" r="13814" b="74348"/>
          <a:stretch/>
        </p:blipFill>
        <p:spPr>
          <a:xfrm>
            <a:off x="4703760" y="2509920"/>
            <a:ext cx="103320" cy="277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332160" y="2517840"/>
            <a:ext cx="187200" cy="88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33600" y="2608200"/>
            <a:ext cx="187560" cy="88920"/>
          </a:xfrm>
          <a:prstGeom prst="ellipse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51640" y="2138400"/>
            <a:ext cx="293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1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4240" y="2468520"/>
            <a:ext cx="293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P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78400" y="148752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78320" y="148752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200" y="1496880"/>
            <a:ext cx="88920" cy="28764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360" y="213516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248760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57560" y="1496880"/>
            <a:ext cx="88920" cy="28764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32200" y="149868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500120"/>
            <a:ext cx="88920" cy="287280"/>
          </a:xfrm>
          <a:prstGeom prst="ellipse">
            <a:avLst/>
          </a:prstGeom>
          <a:noFill/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88400" y="39852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988400" y="61228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24480" y="1238400"/>
            <a:ext cx="3166920" cy="5230800"/>
          </a:xfrm>
          <a:custGeom>
            <a:avLst/>
            <a:gdLst/>
            <a:ahLst/>
            <a:rect l="l" t="t" r="r" b="b"/>
            <a:pathLst>
              <a:path w="1995" h="3295">
                <a:moveTo>
                  <a:pt x="0" y="170"/>
                </a:moveTo>
                <a:cubicBezTo>
                  <a:pt x="32" y="145"/>
                  <a:pt x="105" y="42"/>
                  <a:pt x="189" y="21"/>
                </a:cubicBezTo>
                <a:cubicBezTo>
                  <a:pt x="273" y="0"/>
                  <a:pt x="339" y="0"/>
                  <a:pt x="441" y="225"/>
                </a:cubicBezTo>
                <a:cubicBezTo>
                  <a:pt x="543" y="450"/>
                  <a:pt x="666" y="961"/>
                  <a:pt x="800" y="1373"/>
                </a:cubicBezTo>
                <a:cubicBezTo>
                  <a:pt x="934" y="1785"/>
                  <a:pt x="1118" y="2403"/>
                  <a:pt x="1247" y="2698"/>
                </a:cubicBezTo>
                <a:cubicBezTo>
                  <a:pt x="1376" y="2993"/>
                  <a:pt x="1450" y="3045"/>
                  <a:pt x="1575" y="3144"/>
                </a:cubicBezTo>
                <a:cubicBezTo>
                  <a:pt x="1700" y="3243"/>
                  <a:pt x="1908" y="3264"/>
                  <a:pt x="1995" y="3295"/>
                </a:cubicBez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128600"/>
            <a:ext cx="3217680" cy="4819680"/>
          </a:xfrm>
          <a:custGeom>
            <a:avLst/>
            <a:gdLst/>
            <a:ahLst/>
            <a:rect l="l" t="t" r="r" b="b"/>
            <a:pathLst>
              <a:path w="2027" h="3036">
                <a:moveTo>
                  <a:pt x="0" y="252"/>
                </a:moveTo>
                <a:cubicBezTo>
                  <a:pt x="45" y="214"/>
                  <a:pt x="165" y="48"/>
                  <a:pt x="270" y="24"/>
                </a:cubicBezTo>
                <a:cubicBezTo>
                  <a:pt x="375" y="0"/>
                  <a:pt x="487" y="45"/>
                  <a:pt x="603" y="288"/>
                </a:cubicBezTo>
                <a:cubicBezTo>
                  <a:pt x="719" y="531"/>
                  <a:pt x="831" y="1065"/>
                  <a:pt x="967" y="1483"/>
                </a:cubicBezTo>
                <a:cubicBezTo>
                  <a:pt x="1103" y="1901"/>
                  <a:pt x="1242" y="2558"/>
                  <a:pt x="1419" y="2797"/>
                </a:cubicBezTo>
                <a:cubicBezTo>
                  <a:pt x="1596" y="3036"/>
                  <a:pt x="1811" y="2975"/>
                  <a:pt x="2027" y="29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4880" y="981000"/>
            <a:ext cx="3467160" cy="4105440"/>
          </a:xfrm>
          <a:custGeom>
            <a:avLst/>
            <a:gdLst/>
            <a:ahLst/>
            <a:rect l="l" t="t" r="r" b="b"/>
            <a:pathLst>
              <a:path w="2184" h="2586">
                <a:moveTo>
                  <a:pt x="0" y="342"/>
                </a:moveTo>
                <a:cubicBezTo>
                  <a:pt x="71" y="290"/>
                  <a:pt x="288" y="60"/>
                  <a:pt x="429" y="30"/>
                </a:cubicBezTo>
                <a:cubicBezTo>
                  <a:pt x="570" y="0"/>
                  <a:pt x="673" y="39"/>
                  <a:pt x="798" y="291"/>
                </a:cubicBezTo>
                <a:cubicBezTo>
                  <a:pt x="923" y="543"/>
                  <a:pt x="1056" y="1185"/>
                  <a:pt x="1177" y="1541"/>
                </a:cubicBezTo>
                <a:cubicBezTo>
                  <a:pt x="1298" y="1897"/>
                  <a:pt x="1359" y="2272"/>
                  <a:pt x="1527" y="2429"/>
                </a:cubicBezTo>
                <a:cubicBezTo>
                  <a:pt x="1695" y="2586"/>
                  <a:pt x="2047" y="2472"/>
                  <a:pt x="2184" y="2483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88400" y="53038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88400" y="448632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88400" y="366876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88400" y="28512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0" y="203364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88400" y="12160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ervo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Stand Servo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857160"/>
            <a:ext cx="3562200" cy="3348000"/>
          </a:xfrm>
          <a:custGeom>
            <a:avLst/>
            <a:gdLst/>
            <a:ahLst/>
            <a:rect l="l" t="t" r="r" b="b"/>
            <a:pathLst>
              <a:path w="2244" h="2109">
                <a:moveTo>
                  <a:pt x="0" y="402"/>
                </a:moveTo>
                <a:cubicBezTo>
                  <a:pt x="74" y="342"/>
                  <a:pt x="282" y="78"/>
                  <a:pt x="441" y="39"/>
                </a:cubicBezTo>
                <a:cubicBezTo>
                  <a:pt x="600" y="0"/>
                  <a:pt x="763" y="3"/>
                  <a:pt x="927" y="300"/>
                </a:cubicBezTo>
                <a:cubicBezTo>
                  <a:pt x="1091" y="597"/>
                  <a:pt x="1209" y="1533"/>
                  <a:pt x="1428" y="1821"/>
                </a:cubicBezTo>
                <a:cubicBezTo>
                  <a:pt x="1647" y="2109"/>
                  <a:pt x="1944" y="2072"/>
                  <a:pt x="2244" y="2028"/>
                </a:cubicBezTo>
              </a:path>
            </a:pathLst>
          </a:custGeom>
          <a:noFill/>
          <a:ln w="3816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725400"/>
            <a:ext cx="3776760" cy="2638440"/>
          </a:xfrm>
          <a:custGeom>
            <a:avLst/>
            <a:gdLst/>
            <a:ahLst/>
            <a:rect l="l" t="t" r="r" b="b"/>
            <a:pathLst>
              <a:path w="2379" h="1662">
                <a:moveTo>
                  <a:pt x="0" y="497"/>
                </a:moveTo>
                <a:cubicBezTo>
                  <a:pt x="100" y="421"/>
                  <a:pt x="418" y="76"/>
                  <a:pt x="603" y="38"/>
                </a:cubicBezTo>
                <a:cubicBezTo>
                  <a:pt x="788" y="0"/>
                  <a:pt x="955" y="35"/>
                  <a:pt x="1113" y="269"/>
                </a:cubicBezTo>
                <a:cubicBezTo>
                  <a:pt x="1271" y="503"/>
                  <a:pt x="1337" y="1216"/>
                  <a:pt x="1548" y="1439"/>
                </a:cubicBezTo>
                <a:cubicBezTo>
                  <a:pt x="1759" y="1662"/>
                  <a:pt x="2206" y="1575"/>
                  <a:pt x="2379" y="161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95840" y="557280"/>
            <a:ext cx="3876480" cy="1923840"/>
          </a:xfrm>
          <a:custGeom>
            <a:avLst/>
            <a:gdLst/>
            <a:ahLst/>
            <a:rect l="l" t="t" r="r" b="b"/>
            <a:pathLst>
              <a:path w="2442" h="1212">
                <a:moveTo>
                  <a:pt x="0" y="597"/>
                </a:moveTo>
                <a:cubicBezTo>
                  <a:pt x="102" y="509"/>
                  <a:pt x="416" y="132"/>
                  <a:pt x="612" y="66"/>
                </a:cubicBezTo>
                <a:cubicBezTo>
                  <a:pt x="808" y="0"/>
                  <a:pt x="1038" y="24"/>
                  <a:pt x="1179" y="201"/>
                </a:cubicBezTo>
                <a:cubicBezTo>
                  <a:pt x="1320" y="378"/>
                  <a:pt x="1347" y="731"/>
                  <a:pt x="1557" y="900"/>
                </a:cubicBezTo>
                <a:cubicBezTo>
                  <a:pt x="1767" y="1069"/>
                  <a:pt x="2258" y="1147"/>
                  <a:pt x="2442" y="1212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95920" y="1589040"/>
            <a:ext cx="2867040" cy="925560"/>
          </a:xfrm>
          <a:custGeom>
            <a:avLst/>
            <a:gdLst/>
            <a:ahLst/>
            <a:rect l="l" t="t" r="r" b="b"/>
            <a:pathLst>
              <a:path w="1806" h="583">
                <a:moveTo>
                  <a:pt x="0" y="583"/>
                </a:moveTo>
                <a:cubicBezTo>
                  <a:pt x="257" y="531"/>
                  <a:pt x="515" y="480"/>
                  <a:pt x="702" y="394"/>
                </a:cubicBezTo>
                <a:cubicBezTo>
                  <a:pt x="889" y="308"/>
                  <a:pt x="941" y="128"/>
                  <a:pt x="1125" y="64"/>
                </a:cubicBezTo>
                <a:cubicBezTo>
                  <a:pt x="1309" y="0"/>
                  <a:pt x="1557" y="5"/>
                  <a:pt x="1806" y="10"/>
                </a:cubicBezTo>
              </a:path>
            </a:pathLst>
          </a:custGeom>
          <a:noFill/>
          <a:ln w="381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1520" y="847800"/>
            <a:ext cx="2881440" cy="1328760"/>
          </a:xfrm>
          <a:custGeom>
            <a:avLst/>
            <a:gdLst/>
            <a:ahLst/>
            <a:rect l="l" t="t" r="r" b="b"/>
            <a:pathLst>
              <a:path w="1815" h="822">
                <a:moveTo>
                  <a:pt x="0" y="822"/>
                </a:moveTo>
                <a:cubicBezTo>
                  <a:pt x="221" y="791"/>
                  <a:pt x="442" y="761"/>
                  <a:pt x="609" y="651"/>
                </a:cubicBezTo>
                <a:cubicBezTo>
                  <a:pt x="776" y="541"/>
                  <a:pt x="801" y="270"/>
                  <a:pt x="1002" y="162"/>
                </a:cubicBezTo>
                <a:cubicBezTo>
                  <a:pt x="1203" y="54"/>
                  <a:pt x="1509" y="27"/>
                  <a:pt x="1815" y="0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43560" y="71928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 to +6 V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65200" y="3914640"/>
            <a:ext cx="57024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459320"/>
            <a:ext cx="100368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wer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Position 1 or 2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9880" y="75240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erv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29200" y="9144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68760" y="1006560"/>
            <a:ext cx="927000" cy="2751120"/>
          </a:xfrm>
          <a:custGeom>
            <a:avLst/>
            <a:gdLst/>
            <a:ahLst/>
            <a:rect l="l" t="t" r="r" b="b"/>
            <a:pathLst>
              <a:path w="584" h="1733">
                <a:moveTo>
                  <a:pt x="0" y="7"/>
                </a:moveTo>
                <a:cubicBezTo>
                  <a:pt x="65" y="18"/>
                  <a:pt x="314" y="0"/>
                  <a:pt x="393" y="71"/>
                </a:cubicBezTo>
                <a:cubicBezTo>
                  <a:pt x="472" y="142"/>
                  <a:pt x="484" y="268"/>
                  <a:pt x="474" y="432"/>
                </a:cubicBezTo>
                <a:cubicBezTo>
                  <a:pt x="464" y="596"/>
                  <a:pt x="358" y="876"/>
                  <a:pt x="334" y="1056"/>
                </a:cubicBezTo>
                <a:cubicBezTo>
                  <a:pt x="310" y="1236"/>
                  <a:pt x="323" y="1406"/>
                  <a:pt x="329" y="1514"/>
                </a:cubicBezTo>
                <a:cubicBezTo>
                  <a:pt x="335" y="1622"/>
                  <a:pt x="330" y="1671"/>
                  <a:pt x="372" y="1702"/>
                </a:cubicBezTo>
                <a:cubicBezTo>
                  <a:pt x="414" y="1733"/>
                  <a:pt x="540" y="1702"/>
                  <a:pt x="584" y="1702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743040"/>
            <a:ext cx="88920" cy="426960"/>
          </a:xfrm>
          <a:custGeom>
            <a:avLst/>
            <a:gdLst>
              <a:gd name="textAreaLeft" fmla="*/ 56880 w 88920"/>
              <a:gd name="textAreaRight" fmla="*/ 89280 w 88920"/>
              <a:gd name="textAreaTop" fmla="*/ 10800 h 426960"/>
              <a:gd name="textAreaBottom" fmla="*/ 416160 h 42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914640" y="3249000"/>
            <a:ext cx="215640" cy="366480"/>
            <a:chOff x="3914640" y="3249000"/>
            <a:chExt cx="215640" cy="366480"/>
          </a:xfrm>
        </p:grpSpPr>
        <p:sp>
          <p:nvSpPr>
            <p:cNvPr id="127" name=""/>
            <p:cNvSpPr/>
            <p:nvPr/>
          </p:nvSpPr>
          <p:spPr>
            <a:xfrm>
              <a:off x="3962520" y="3297240"/>
              <a:ext cx="136440" cy="264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3839040" y="332424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2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786120" y="2739240"/>
            <a:ext cx="215640" cy="366480"/>
            <a:chOff x="3786120" y="2739240"/>
            <a:chExt cx="215640" cy="366480"/>
          </a:xfrm>
        </p:grpSpPr>
        <p:sp>
          <p:nvSpPr>
            <p:cNvPr id="130" name=""/>
            <p:cNvSpPr/>
            <p:nvPr/>
          </p:nvSpPr>
          <p:spPr>
            <a:xfrm>
              <a:off x="3834000" y="2787480"/>
              <a:ext cx="136440" cy="265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3710520" y="2814480"/>
              <a:ext cx="36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971880" y="3557520"/>
            <a:ext cx="7308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0" y="90"/>
                </a:moveTo>
                <a:cubicBezTo>
                  <a:pt x="18" y="81"/>
                  <a:pt x="32" y="72"/>
                  <a:pt x="39" y="57"/>
                </a:cubicBezTo>
                <a:cubicBezTo>
                  <a:pt x="46" y="42"/>
                  <a:pt x="39" y="12"/>
                  <a:pt x="39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  <a:effectLst>
            <a:outerShdw dist="28496" dir="38255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24360" y="3195720"/>
            <a:ext cx="100080" cy="95040"/>
          </a:xfrm>
          <a:custGeom>
            <a:avLst/>
            <a:gdLst/>
            <a:ahLst/>
            <a:rect l="l" t="t" r="r" b="b"/>
            <a:pathLst>
              <a:path w="63" h="60">
                <a:moveTo>
                  <a:pt x="63" y="60"/>
                </a:moveTo>
                <a:cubicBezTo>
                  <a:pt x="60" y="53"/>
                  <a:pt x="62" y="28"/>
                  <a:pt x="51" y="18"/>
                </a:cubicBezTo>
                <a:cubicBezTo>
                  <a:pt x="40" y="8"/>
                  <a:pt x="22" y="4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44840" y="3205080"/>
            <a:ext cx="279360" cy="324000"/>
          </a:xfrm>
          <a:custGeom>
            <a:avLst/>
            <a:gdLst/>
            <a:ahLst/>
            <a:rect l="l" t="t" r="r" b="b"/>
            <a:pathLst>
              <a:path w="176" h="204">
                <a:moveTo>
                  <a:pt x="176" y="0"/>
                </a:moveTo>
                <a:cubicBezTo>
                  <a:pt x="118" y="18"/>
                  <a:pt x="61" y="36"/>
                  <a:pt x="32" y="63"/>
                </a:cubicBezTo>
                <a:cubicBezTo>
                  <a:pt x="3" y="90"/>
                  <a:pt x="0" y="135"/>
                  <a:pt x="5" y="159"/>
                </a:cubicBezTo>
                <a:cubicBezTo>
                  <a:pt x="10" y="183"/>
                  <a:pt x="37" y="193"/>
                  <a:pt x="65" y="204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28960" y="3048120"/>
            <a:ext cx="77760" cy="152280"/>
          </a:xfrm>
          <a:custGeom>
            <a:avLst/>
            <a:gdLst/>
            <a:ahLst/>
            <a:rect l="l" t="t" r="r" b="b"/>
            <a:pathLst>
              <a:path w="49" h="96">
                <a:moveTo>
                  <a:pt x="42" y="0"/>
                </a:moveTo>
                <a:cubicBezTo>
                  <a:pt x="45" y="13"/>
                  <a:pt x="49" y="26"/>
                  <a:pt x="42" y="42"/>
                </a:cubicBezTo>
                <a:cubicBezTo>
                  <a:pt x="35" y="58"/>
                  <a:pt x="17" y="77"/>
                  <a:pt x="0" y="9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00600" y="2647800"/>
            <a:ext cx="109440" cy="133560"/>
          </a:xfrm>
          <a:custGeom>
            <a:avLst/>
            <a:gdLst/>
            <a:ahLst/>
            <a:rect l="l" t="t" r="r" b="b"/>
            <a:pathLst>
              <a:path w="69" h="84">
                <a:moveTo>
                  <a:pt x="0" y="84"/>
                </a:moveTo>
                <a:cubicBezTo>
                  <a:pt x="2" y="74"/>
                  <a:pt x="1" y="35"/>
                  <a:pt x="12" y="21"/>
                </a:cubicBezTo>
                <a:cubicBezTo>
                  <a:pt x="23" y="7"/>
                  <a:pt x="57" y="4"/>
                  <a:pt x="69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0120" y="2647800"/>
            <a:ext cx="309600" cy="2443320"/>
          </a:xfrm>
          <a:custGeom>
            <a:avLst/>
            <a:gdLst/>
            <a:ahLst/>
            <a:rect l="l" t="t" r="r" b="b"/>
            <a:pathLst>
              <a:path w="195" h="1539">
                <a:moveTo>
                  <a:pt x="0" y="0"/>
                </a:moveTo>
                <a:cubicBezTo>
                  <a:pt x="58" y="55"/>
                  <a:pt x="116" y="110"/>
                  <a:pt x="147" y="195"/>
                </a:cubicBezTo>
                <a:cubicBezTo>
                  <a:pt x="178" y="280"/>
                  <a:pt x="183" y="289"/>
                  <a:pt x="189" y="513"/>
                </a:cubicBezTo>
                <a:cubicBezTo>
                  <a:pt x="195" y="737"/>
                  <a:pt x="190" y="1138"/>
                  <a:pt x="186" y="1539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64080" y="5324400"/>
            <a:ext cx="1730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gger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 VDC – Idle/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VDC – Trigger Start of Sh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62480" y="5008680"/>
            <a:ext cx="88920" cy="16164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59360" y="3664080"/>
            <a:ext cx="101520" cy="1496880"/>
          </a:xfrm>
          <a:custGeom>
            <a:avLst/>
            <a:gdLst/>
            <a:ahLst/>
            <a:rect l="l" t="t" r="r" b="b"/>
            <a:pathLst>
              <a:path w="64" h="943">
                <a:moveTo>
                  <a:pt x="0" y="28"/>
                </a:moveTo>
                <a:cubicBezTo>
                  <a:pt x="22" y="14"/>
                  <a:pt x="44" y="0"/>
                  <a:pt x="54" y="152"/>
                </a:cubicBezTo>
                <a:cubicBezTo>
                  <a:pt x="64" y="304"/>
                  <a:pt x="61" y="623"/>
                  <a:pt x="59" y="9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06880" y="5018040"/>
            <a:ext cx="88920" cy="162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05640" y="5154480"/>
            <a:ext cx="772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ND  Sig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7:36:35Z</dcterms:created>
  <dc:creator>Brian Lincoln</dc:creator>
  <dc:description/>
  <dc:language>en-US</dc:language>
  <cp:lastModifiedBy>Brian Lincoln</cp:lastModifiedBy>
  <dcterms:modified xsi:type="dcterms:W3CDTF">2014-09-15T22:47:23Z</dcterms:modified>
  <cp:revision>50</cp:revision>
  <dc:subject/>
  <dc:title>Slide 1</dc:title>
</cp:coreProperties>
</file>