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6A6-89B2-4493-A7A7-F54F2DA9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346120"/>
            <a:ext cx="658512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814000"/>
            <a:ext cx="658512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CF6-2CE9-4B8D-8399-276DF7C3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346120"/>
            <a:ext cx="321336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346120"/>
            <a:ext cx="321336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814000"/>
            <a:ext cx="321336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814000"/>
            <a:ext cx="321336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D05-5546-4D04-8054-A58092C9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346120"/>
            <a:ext cx="212004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346120"/>
            <a:ext cx="212004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346120"/>
            <a:ext cx="212004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814000"/>
            <a:ext cx="212004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814000"/>
            <a:ext cx="212004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814000"/>
            <a:ext cx="212004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C98-9813-4D5D-BCBE-64C446C1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346120"/>
            <a:ext cx="6585120" cy="66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E4D-68EF-4495-8E07-C0C5BC24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346120"/>
            <a:ext cx="6585120" cy="6638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447-BD3F-4D2C-AB28-A2DFB37B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346120"/>
            <a:ext cx="3213360" cy="6638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346120"/>
            <a:ext cx="3213360" cy="6638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960-53BB-4D66-ADF1-FA5DB719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06F-C47F-4832-85D8-2E37733A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402840"/>
            <a:ext cx="65851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701-4FCD-4614-B31E-31E6A2AD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346120"/>
            <a:ext cx="321336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346120"/>
            <a:ext cx="3213360" cy="6638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814000"/>
            <a:ext cx="321336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2AE-A595-4737-AB01-2A7BBEEB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346120"/>
            <a:ext cx="3213360" cy="6638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346120"/>
            <a:ext cx="321336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814000"/>
            <a:ext cx="321336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CFA9-8D32-42C7-A5BB-0142C3A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346120"/>
            <a:ext cx="321336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346120"/>
            <a:ext cx="321336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814000"/>
            <a:ext cx="6585120" cy="3166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2CD-6E56-44E0-9440-4F2AF697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402840"/>
            <a:ext cx="6585120" cy="1676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346120"/>
            <a:ext cx="6585120" cy="6638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9159840"/>
            <a:ext cx="1708200" cy="698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9159840"/>
            <a:ext cx="2317680" cy="698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9159840"/>
            <a:ext cx="1708200" cy="698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37E79709-24CB-4BFA-80CC-E42A2B0F700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600" y="177840"/>
            <a:ext cx="3665520" cy="4778280"/>
            <a:chOff x="12600" y="177840"/>
            <a:chExt cx="3665520" cy="4778280"/>
          </a:xfrm>
        </p:grpSpPr>
        <p:sp>
          <p:nvSpPr>
            <p:cNvPr id="42" name=""/>
            <p:cNvSpPr/>
            <p:nvPr/>
          </p:nvSpPr>
          <p:spPr>
            <a:xfrm>
              <a:off x="2184120" y="847800"/>
              <a:ext cx="4860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98480" y="854280"/>
              <a:ext cx="517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3520" y="847800"/>
              <a:ext cx="503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T/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63480" y="847800"/>
              <a:ext cx="5382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rvo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720" y="847800"/>
              <a:ext cx="746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ature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114360" y="3552840"/>
              <a:ext cx="48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70120" y="3552840"/>
              <a:ext cx="444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84120" y="3552840"/>
              <a:ext cx="486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66800" y="3552840"/>
              <a:ext cx="51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39760" y="3552840"/>
              <a:ext cx="503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5320" y="3552840"/>
              <a:ext cx="538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200" y="3552840"/>
              <a:ext cx="60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14360" y="3218040"/>
              <a:ext cx="487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70120" y="3218040"/>
              <a:ext cx="444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84120" y="3218040"/>
              <a:ext cx="486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66800" y="3218040"/>
              <a:ext cx="517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63520" y="3218040"/>
              <a:ext cx="503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5320" y="3218040"/>
              <a:ext cx="538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200" y="3218040"/>
              <a:ext cx="600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14360" y="288612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70120" y="288612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84120" y="2886120"/>
              <a:ext cx="4860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66800" y="288612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63520" y="2886120"/>
              <a:ext cx="50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5320" y="288612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00" y="288612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14360" y="255420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70120" y="255420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84120" y="2554200"/>
              <a:ext cx="4860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66800" y="255420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63520" y="2554200"/>
              <a:ext cx="50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5320" y="255420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200" y="255420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14360" y="2222640"/>
              <a:ext cx="487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70120" y="2222640"/>
              <a:ext cx="4442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84120" y="2222640"/>
              <a:ext cx="486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66800" y="2222640"/>
              <a:ext cx="5173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63520" y="2222640"/>
              <a:ext cx="5032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5320" y="2222640"/>
              <a:ext cx="538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200" y="2222640"/>
              <a:ext cx="600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14360" y="1887480"/>
              <a:ext cx="487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70120" y="1887480"/>
              <a:ext cx="444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84120" y="1887480"/>
              <a:ext cx="486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66800" y="1887480"/>
              <a:ext cx="51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63520" y="1887480"/>
              <a:ext cx="503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5320" y="1887480"/>
              <a:ext cx="538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00" y="1887480"/>
              <a:ext cx="600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14360" y="1557360"/>
              <a:ext cx="48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95320" y="15573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84120" y="1557360"/>
              <a:ext cx="486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66800" y="1557360"/>
              <a:ext cx="51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63520" y="1557360"/>
              <a:ext cx="503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5320" y="1557360"/>
              <a:ext cx="538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200" y="1557360"/>
              <a:ext cx="60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14360" y="122544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70120" y="122544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90600" y="1225440"/>
              <a:ext cx="4856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66800" y="122544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66760" y="1225440"/>
              <a:ext cx="5029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5320" y="122544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200" y="122544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200" y="784440"/>
              <a:ext cx="357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200" y="155736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200" y="188748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200" y="222264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200" y="255420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200" y="288612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200" y="321804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200" y="355284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200" y="3882960"/>
              <a:ext cx="357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0360" y="784440"/>
              <a:ext cx="0" cy="30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37960" y="77148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666440" y="797040"/>
              <a:ext cx="6120" cy="30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84120" y="797040"/>
              <a:ext cx="0" cy="30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89200" y="777960"/>
              <a:ext cx="0" cy="31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09760" y="777960"/>
              <a:ext cx="0" cy="31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200" y="122544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20" y="203400"/>
              <a:ext cx="9874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p/Cha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01520" y="43020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200" y="177840"/>
              <a:ext cx="3581280" cy="477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960" y="3921120"/>
              <a:ext cx="6735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50560" y="506520"/>
              <a:ext cx="5803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82640" y="70812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0" y="496800"/>
              <a:ext cx="9187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imato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69840" y="701640"/>
              <a:ext cx="10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07920" y="847800"/>
              <a:ext cx="508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90680" y="854280"/>
              <a:ext cx="4874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144440" y="1233360"/>
              <a:ext cx="514440" cy="114120"/>
              <a:chOff x="1144440" y="1233360"/>
              <a:chExt cx="514440" cy="114120"/>
            </a:xfrm>
          </p:grpSpPr>
          <p:sp>
            <p:nvSpPr>
              <p:cNvPr id="130" name=""/>
              <p:cNvSpPr/>
              <p:nvPr/>
            </p:nvSpPr>
            <p:spPr>
              <a:xfrm>
                <a:off x="1144440" y="134748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95360" y="12333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1144440" y="1565280"/>
              <a:ext cx="514440" cy="114120"/>
              <a:chOff x="1144440" y="1565280"/>
              <a:chExt cx="514440" cy="114120"/>
            </a:xfrm>
          </p:grpSpPr>
          <p:sp>
            <p:nvSpPr>
              <p:cNvPr id="133" name=""/>
              <p:cNvSpPr/>
              <p:nvPr/>
            </p:nvSpPr>
            <p:spPr>
              <a:xfrm>
                <a:off x="1144440" y="167940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95360" y="15652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1144440" y="1897200"/>
              <a:ext cx="514440" cy="114120"/>
              <a:chOff x="1144440" y="1897200"/>
              <a:chExt cx="514440" cy="114120"/>
            </a:xfrm>
          </p:grpSpPr>
          <p:sp>
            <p:nvSpPr>
              <p:cNvPr id="136" name=""/>
              <p:cNvSpPr/>
              <p:nvPr/>
            </p:nvSpPr>
            <p:spPr>
              <a:xfrm>
                <a:off x="1144440" y="201132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95360" y="18972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144440" y="2228760"/>
              <a:ext cx="514440" cy="114120"/>
              <a:chOff x="1144440" y="2228760"/>
              <a:chExt cx="514440" cy="114120"/>
            </a:xfrm>
          </p:grpSpPr>
          <p:sp>
            <p:nvSpPr>
              <p:cNvPr id="139" name=""/>
              <p:cNvSpPr/>
              <p:nvPr/>
            </p:nvSpPr>
            <p:spPr>
              <a:xfrm>
                <a:off x="1144440" y="234288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95360" y="22287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144440" y="2562120"/>
              <a:ext cx="514440" cy="114120"/>
              <a:chOff x="1144440" y="2562120"/>
              <a:chExt cx="514440" cy="114120"/>
            </a:xfrm>
          </p:grpSpPr>
          <p:sp>
            <p:nvSpPr>
              <p:cNvPr id="142" name=""/>
              <p:cNvSpPr/>
              <p:nvPr/>
            </p:nvSpPr>
            <p:spPr>
              <a:xfrm>
                <a:off x="1144440" y="267624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95360" y="25621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144440" y="2894040"/>
              <a:ext cx="514440" cy="114120"/>
              <a:chOff x="1144440" y="2894040"/>
              <a:chExt cx="514440" cy="114120"/>
            </a:xfrm>
          </p:grpSpPr>
          <p:sp>
            <p:nvSpPr>
              <p:cNvPr id="145" name=""/>
              <p:cNvSpPr/>
              <p:nvPr/>
            </p:nvSpPr>
            <p:spPr>
              <a:xfrm>
                <a:off x="1144440" y="300816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95360" y="28940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144440" y="3225960"/>
              <a:ext cx="514440" cy="114120"/>
              <a:chOff x="1144440" y="3225960"/>
              <a:chExt cx="514440" cy="114120"/>
            </a:xfrm>
          </p:grpSpPr>
          <p:sp>
            <p:nvSpPr>
              <p:cNvPr id="148" name=""/>
              <p:cNvSpPr/>
              <p:nvPr/>
            </p:nvSpPr>
            <p:spPr>
              <a:xfrm>
                <a:off x="1144440" y="334008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95360" y="32259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149120" y="3559320"/>
              <a:ext cx="514440" cy="114120"/>
              <a:chOff x="1149120" y="3559320"/>
              <a:chExt cx="514440" cy="114120"/>
            </a:xfrm>
          </p:grpSpPr>
          <p:sp>
            <p:nvSpPr>
              <p:cNvPr id="151" name=""/>
              <p:cNvSpPr/>
              <p:nvPr/>
            </p:nvSpPr>
            <p:spPr>
              <a:xfrm>
                <a:off x="1149120" y="367344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00040" y="35593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12600" y="5029200"/>
            <a:ext cx="3665520" cy="4778280"/>
            <a:chOff x="12600" y="5029200"/>
            <a:chExt cx="3665520" cy="4778280"/>
          </a:xfrm>
        </p:grpSpPr>
        <p:sp>
          <p:nvSpPr>
            <p:cNvPr id="154" name=""/>
            <p:cNvSpPr/>
            <p:nvPr/>
          </p:nvSpPr>
          <p:spPr>
            <a:xfrm>
              <a:off x="2184120" y="5699160"/>
              <a:ext cx="4860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98480" y="5705640"/>
              <a:ext cx="517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3520" y="5699160"/>
              <a:ext cx="503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T/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3480" y="5699160"/>
              <a:ext cx="5382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rvo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720" y="5699160"/>
              <a:ext cx="746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ature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14360" y="8404200"/>
              <a:ext cx="48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70120" y="8404200"/>
              <a:ext cx="444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84120" y="8404200"/>
              <a:ext cx="486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6800" y="8404200"/>
              <a:ext cx="51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39760" y="8404200"/>
              <a:ext cx="503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5320" y="8404200"/>
              <a:ext cx="538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00" y="8404200"/>
              <a:ext cx="60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14360" y="8069400"/>
              <a:ext cx="487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70120" y="8069400"/>
              <a:ext cx="444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84120" y="8069400"/>
              <a:ext cx="486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66800" y="8069400"/>
              <a:ext cx="517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63520" y="8069400"/>
              <a:ext cx="503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5320" y="8069400"/>
              <a:ext cx="538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00" y="8069400"/>
              <a:ext cx="600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14360" y="773748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0120" y="773748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84120" y="7737480"/>
              <a:ext cx="4860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66800" y="773748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63520" y="7737480"/>
              <a:ext cx="50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5320" y="773748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200" y="773748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14360" y="740556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70120" y="740556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84120" y="7405560"/>
              <a:ext cx="4860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66800" y="740556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63520" y="7405560"/>
              <a:ext cx="50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5320" y="740556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200" y="740556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14360" y="7074000"/>
              <a:ext cx="487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70120" y="7074000"/>
              <a:ext cx="4442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84120" y="7074000"/>
              <a:ext cx="486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6800" y="7074000"/>
              <a:ext cx="5173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63520" y="7074000"/>
              <a:ext cx="5032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5320" y="7074000"/>
              <a:ext cx="538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200" y="7074000"/>
              <a:ext cx="600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4360" y="6738840"/>
              <a:ext cx="487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70120" y="6738840"/>
              <a:ext cx="444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84120" y="6738840"/>
              <a:ext cx="486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66800" y="6738840"/>
              <a:ext cx="51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3520" y="6738840"/>
              <a:ext cx="503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5320" y="6738840"/>
              <a:ext cx="538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200" y="6738840"/>
              <a:ext cx="600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14360" y="6408720"/>
              <a:ext cx="48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95320" y="640872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84120" y="6408720"/>
              <a:ext cx="486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66800" y="6408720"/>
              <a:ext cx="51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63520" y="6408720"/>
              <a:ext cx="503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5320" y="6408720"/>
              <a:ext cx="538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200" y="6408720"/>
              <a:ext cx="60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14360" y="607680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70120" y="607680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90600" y="6076800"/>
              <a:ext cx="4856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66800" y="607680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66760" y="6076800"/>
              <a:ext cx="5029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5320" y="607680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200" y="607680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200" y="5635800"/>
              <a:ext cx="357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200" y="640872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200" y="673884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200" y="707400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200" y="740556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200" y="773748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200" y="806940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200" y="840420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200" y="8734320"/>
              <a:ext cx="357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0360" y="5635800"/>
              <a:ext cx="0" cy="30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7960" y="562284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666440" y="5648400"/>
              <a:ext cx="6120" cy="30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4120" y="5648400"/>
              <a:ext cx="0" cy="30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89200" y="5629320"/>
              <a:ext cx="0" cy="31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9760" y="5629320"/>
              <a:ext cx="0" cy="31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200" y="607680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720" y="5054760"/>
              <a:ext cx="9874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p/Cha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01520" y="52815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200" y="5029200"/>
              <a:ext cx="3581280" cy="477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960" y="8772480"/>
              <a:ext cx="6735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50560" y="5357880"/>
              <a:ext cx="5803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82640" y="555948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600" y="5348160"/>
              <a:ext cx="9187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imato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69840" y="5553000"/>
              <a:ext cx="10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07920" y="5699160"/>
              <a:ext cx="508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90680" y="5705640"/>
              <a:ext cx="4874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1144440" y="6084720"/>
              <a:ext cx="514440" cy="114120"/>
              <a:chOff x="1144440" y="6084720"/>
              <a:chExt cx="514440" cy="114120"/>
            </a:xfrm>
          </p:grpSpPr>
          <p:sp>
            <p:nvSpPr>
              <p:cNvPr id="242" name=""/>
              <p:cNvSpPr/>
              <p:nvPr/>
            </p:nvSpPr>
            <p:spPr>
              <a:xfrm>
                <a:off x="1144440" y="619884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95360" y="60847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144440" y="6416640"/>
              <a:ext cx="514440" cy="114120"/>
              <a:chOff x="1144440" y="6416640"/>
              <a:chExt cx="514440" cy="114120"/>
            </a:xfrm>
          </p:grpSpPr>
          <p:sp>
            <p:nvSpPr>
              <p:cNvPr id="245" name=""/>
              <p:cNvSpPr/>
              <p:nvPr/>
            </p:nvSpPr>
            <p:spPr>
              <a:xfrm>
                <a:off x="1144440" y="653076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95360" y="64166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1144440" y="6748560"/>
              <a:ext cx="514440" cy="114120"/>
              <a:chOff x="1144440" y="6748560"/>
              <a:chExt cx="514440" cy="114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144440" y="686268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95360" y="67485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144440" y="7080120"/>
              <a:ext cx="514440" cy="114120"/>
              <a:chOff x="1144440" y="7080120"/>
              <a:chExt cx="514440" cy="114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144440" y="719424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95360" y="70801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144440" y="7413480"/>
              <a:ext cx="514440" cy="114120"/>
              <a:chOff x="1144440" y="7413480"/>
              <a:chExt cx="514440" cy="114120"/>
            </a:xfrm>
          </p:grpSpPr>
          <p:sp>
            <p:nvSpPr>
              <p:cNvPr id="254" name=""/>
              <p:cNvSpPr/>
              <p:nvPr/>
            </p:nvSpPr>
            <p:spPr>
              <a:xfrm>
                <a:off x="1144440" y="752760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395360" y="74134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144440" y="7745400"/>
              <a:ext cx="514440" cy="114120"/>
              <a:chOff x="1144440" y="7745400"/>
              <a:chExt cx="514440" cy="114120"/>
            </a:xfrm>
          </p:grpSpPr>
          <p:sp>
            <p:nvSpPr>
              <p:cNvPr id="257" name=""/>
              <p:cNvSpPr/>
              <p:nvPr/>
            </p:nvSpPr>
            <p:spPr>
              <a:xfrm>
                <a:off x="1144440" y="785952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395360" y="77454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144440" y="8077320"/>
              <a:ext cx="514440" cy="114120"/>
              <a:chOff x="1144440" y="8077320"/>
              <a:chExt cx="514440" cy="114120"/>
            </a:xfrm>
          </p:grpSpPr>
          <p:sp>
            <p:nvSpPr>
              <p:cNvPr id="260" name=""/>
              <p:cNvSpPr/>
              <p:nvPr/>
            </p:nvSpPr>
            <p:spPr>
              <a:xfrm>
                <a:off x="1144440" y="819144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395360" y="80773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149120" y="8410680"/>
              <a:ext cx="514440" cy="114120"/>
              <a:chOff x="1149120" y="8410680"/>
              <a:chExt cx="514440" cy="114120"/>
            </a:xfrm>
          </p:grpSpPr>
          <p:sp>
            <p:nvSpPr>
              <p:cNvPr id="263" name=""/>
              <p:cNvSpPr/>
              <p:nvPr/>
            </p:nvSpPr>
            <p:spPr>
              <a:xfrm>
                <a:off x="1149120" y="852480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00040" y="84106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3675240" y="179280"/>
            <a:ext cx="3665520" cy="4778280"/>
            <a:chOff x="3675240" y="179280"/>
            <a:chExt cx="3665520" cy="4778280"/>
          </a:xfrm>
        </p:grpSpPr>
        <p:sp>
          <p:nvSpPr>
            <p:cNvPr id="266" name=""/>
            <p:cNvSpPr/>
            <p:nvPr/>
          </p:nvSpPr>
          <p:spPr>
            <a:xfrm>
              <a:off x="5846760" y="849240"/>
              <a:ext cx="4860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61120" y="855720"/>
              <a:ext cx="517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26160" y="849240"/>
              <a:ext cx="503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T/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26120" y="849240"/>
              <a:ext cx="5382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rvo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81360" y="849240"/>
              <a:ext cx="746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ature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77000" y="3554280"/>
              <a:ext cx="48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32760" y="3554280"/>
              <a:ext cx="444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46760" y="3554280"/>
              <a:ext cx="486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29440" y="3554280"/>
              <a:ext cx="51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02400" y="3554280"/>
              <a:ext cx="503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87960" y="3554280"/>
              <a:ext cx="538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87840" y="3554280"/>
              <a:ext cx="60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77000" y="3219480"/>
              <a:ext cx="487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32760" y="3219480"/>
              <a:ext cx="444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46760" y="3219480"/>
              <a:ext cx="486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29440" y="3219480"/>
              <a:ext cx="517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26160" y="3219480"/>
              <a:ext cx="503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87960" y="3219480"/>
              <a:ext cx="538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87840" y="3219480"/>
              <a:ext cx="600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77000" y="288756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32760" y="288756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46760" y="2887560"/>
              <a:ext cx="4860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29440" y="288756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26160" y="2887560"/>
              <a:ext cx="50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87960" y="288756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87840" y="288756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77000" y="255564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2760" y="255564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46760" y="2555640"/>
              <a:ext cx="4860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29440" y="255564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26160" y="2555640"/>
              <a:ext cx="50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87960" y="255564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87840" y="255564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77000" y="2224080"/>
              <a:ext cx="487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32760" y="2224080"/>
              <a:ext cx="4442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46760" y="2224080"/>
              <a:ext cx="486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29440" y="2224080"/>
              <a:ext cx="5173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26160" y="2224080"/>
              <a:ext cx="5032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7960" y="2224080"/>
              <a:ext cx="538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87840" y="2224080"/>
              <a:ext cx="600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77000" y="1888920"/>
              <a:ext cx="487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32760" y="1888920"/>
              <a:ext cx="444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46760" y="1888920"/>
              <a:ext cx="486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29440" y="1888920"/>
              <a:ext cx="51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26160" y="1888920"/>
              <a:ext cx="503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87960" y="1888920"/>
              <a:ext cx="538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87840" y="1888920"/>
              <a:ext cx="600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77000" y="1558800"/>
              <a:ext cx="48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7960" y="155880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46760" y="1558800"/>
              <a:ext cx="486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29440" y="1558800"/>
              <a:ext cx="51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26160" y="1558800"/>
              <a:ext cx="503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87960" y="1558800"/>
              <a:ext cx="538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87840" y="1558800"/>
              <a:ext cx="60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77000" y="122688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32760" y="122688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53240" y="1226880"/>
              <a:ext cx="4856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29440" y="122688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29400" y="1226880"/>
              <a:ext cx="5029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7960" y="122688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87840" y="122688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87840" y="785880"/>
              <a:ext cx="357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87840" y="155880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87840" y="188892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87840" y="222408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87840" y="255564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87840" y="288756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87840" y="321948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87840" y="355428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87840" y="3884400"/>
              <a:ext cx="357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83000" y="785880"/>
              <a:ext cx="0" cy="30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0600" y="77292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329080" y="798480"/>
              <a:ext cx="6120" cy="30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46760" y="798480"/>
              <a:ext cx="0" cy="30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51840" y="779400"/>
              <a:ext cx="0" cy="31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72400" y="779400"/>
              <a:ext cx="0" cy="31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87840" y="122688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81360" y="204840"/>
              <a:ext cx="9874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p/Cha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64160" y="43164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87840" y="179280"/>
              <a:ext cx="3581280" cy="477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1600" y="3922560"/>
              <a:ext cx="6735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13200" y="507960"/>
              <a:ext cx="5803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5280" y="70956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5240" y="498240"/>
              <a:ext cx="9187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imato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32480" y="703080"/>
              <a:ext cx="10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0560" y="849240"/>
              <a:ext cx="508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53320" y="855720"/>
              <a:ext cx="4874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807080" y="1234800"/>
              <a:ext cx="514440" cy="114120"/>
              <a:chOff x="4807080" y="1234800"/>
              <a:chExt cx="514440" cy="114120"/>
            </a:xfrm>
          </p:grpSpPr>
          <p:sp>
            <p:nvSpPr>
              <p:cNvPr id="354" name=""/>
              <p:cNvSpPr/>
              <p:nvPr/>
            </p:nvSpPr>
            <p:spPr>
              <a:xfrm>
                <a:off x="4807080" y="134892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058000" y="12348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4807080" y="1566720"/>
              <a:ext cx="514440" cy="114120"/>
              <a:chOff x="4807080" y="1566720"/>
              <a:chExt cx="514440" cy="114120"/>
            </a:xfrm>
          </p:grpSpPr>
          <p:sp>
            <p:nvSpPr>
              <p:cNvPr id="357" name=""/>
              <p:cNvSpPr/>
              <p:nvPr/>
            </p:nvSpPr>
            <p:spPr>
              <a:xfrm>
                <a:off x="4807080" y="168084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058000" y="15667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807080" y="1898640"/>
              <a:ext cx="514440" cy="114120"/>
              <a:chOff x="4807080" y="1898640"/>
              <a:chExt cx="514440" cy="114120"/>
            </a:xfrm>
          </p:grpSpPr>
          <p:sp>
            <p:nvSpPr>
              <p:cNvPr id="360" name=""/>
              <p:cNvSpPr/>
              <p:nvPr/>
            </p:nvSpPr>
            <p:spPr>
              <a:xfrm>
                <a:off x="4807080" y="201276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058000" y="18986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807080" y="2230200"/>
              <a:ext cx="514440" cy="114120"/>
              <a:chOff x="4807080" y="2230200"/>
              <a:chExt cx="514440" cy="114120"/>
            </a:xfrm>
          </p:grpSpPr>
          <p:sp>
            <p:nvSpPr>
              <p:cNvPr id="363" name=""/>
              <p:cNvSpPr/>
              <p:nvPr/>
            </p:nvSpPr>
            <p:spPr>
              <a:xfrm>
                <a:off x="4807080" y="234432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58000" y="22302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807080" y="2563560"/>
              <a:ext cx="514440" cy="114120"/>
              <a:chOff x="4807080" y="2563560"/>
              <a:chExt cx="514440" cy="114120"/>
            </a:xfrm>
          </p:grpSpPr>
          <p:sp>
            <p:nvSpPr>
              <p:cNvPr id="366" name=""/>
              <p:cNvSpPr/>
              <p:nvPr/>
            </p:nvSpPr>
            <p:spPr>
              <a:xfrm>
                <a:off x="4807080" y="267768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058000" y="25635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807080" y="2895480"/>
              <a:ext cx="514440" cy="114120"/>
              <a:chOff x="4807080" y="2895480"/>
              <a:chExt cx="514440" cy="114120"/>
            </a:xfrm>
          </p:grpSpPr>
          <p:sp>
            <p:nvSpPr>
              <p:cNvPr id="369" name=""/>
              <p:cNvSpPr/>
              <p:nvPr/>
            </p:nvSpPr>
            <p:spPr>
              <a:xfrm>
                <a:off x="4807080" y="300960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058000" y="28954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807080" y="3227400"/>
              <a:ext cx="514440" cy="114120"/>
              <a:chOff x="4807080" y="3227400"/>
              <a:chExt cx="514440" cy="114120"/>
            </a:xfrm>
          </p:grpSpPr>
          <p:sp>
            <p:nvSpPr>
              <p:cNvPr id="372" name=""/>
              <p:cNvSpPr/>
              <p:nvPr/>
            </p:nvSpPr>
            <p:spPr>
              <a:xfrm>
                <a:off x="4807080" y="334152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058000" y="32274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4811760" y="3560760"/>
              <a:ext cx="514440" cy="114120"/>
              <a:chOff x="4811760" y="3560760"/>
              <a:chExt cx="514440" cy="114120"/>
            </a:xfrm>
          </p:grpSpPr>
          <p:sp>
            <p:nvSpPr>
              <p:cNvPr id="375" name=""/>
              <p:cNvSpPr/>
              <p:nvPr/>
            </p:nvSpPr>
            <p:spPr>
              <a:xfrm>
                <a:off x="4811760" y="367488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062680" y="35607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3675240" y="5030640"/>
            <a:ext cx="3665520" cy="4778280"/>
            <a:chOff x="3675240" y="5030640"/>
            <a:chExt cx="3665520" cy="4778280"/>
          </a:xfrm>
        </p:grpSpPr>
        <p:sp>
          <p:nvSpPr>
            <p:cNvPr id="378" name=""/>
            <p:cNvSpPr/>
            <p:nvPr/>
          </p:nvSpPr>
          <p:spPr>
            <a:xfrm>
              <a:off x="5846760" y="5700600"/>
              <a:ext cx="4860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61120" y="5707080"/>
              <a:ext cx="517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26160" y="5700600"/>
              <a:ext cx="503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T/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26120" y="5700600"/>
              <a:ext cx="5382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rvo#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81360" y="5700600"/>
              <a:ext cx="7462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 fontScale="90000"/>
            </a:bodyPr>
            <a:p>
              <a:pPr algn="ctr"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rmature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77000" y="8405640"/>
              <a:ext cx="48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32760" y="8405640"/>
              <a:ext cx="444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46760" y="8405640"/>
              <a:ext cx="486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29440" y="8405640"/>
              <a:ext cx="51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02400" y="8405640"/>
              <a:ext cx="503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87960" y="8405640"/>
              <a:ext cx="538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87840" y="8405640"/>
              <a:ext cx="60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77000" y="8070840"/>
              <a:ext cx="487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32760" y="8070840"/>
              <a:ext cx="4442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46760" y="8070840"/>
              <a:ext cx="486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29440" y="8070840"/>
              <a:ext cx="517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6160" y="8070840"/>
              <a:ext cx="503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87960" y="8070840"/>
              <a:ext cx="5382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87840" y="8070840"/>
              <a:ext cx="600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77000" y="773892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32760" y="773892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46760" y="7738920"/>
              <a:ext cx="4860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29440" y="773892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26160" y="7738920"/>
              <a:ext cx="50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87960" y="773892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87840" y="773892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77000" y="740700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32760" y="740700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6760" y="7407000"/>
              <a:ext cx="4860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9440" y="740700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26160" y="7407000"/>
              <a:ext cx="50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87960" y="740700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87840" y="740700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77000" y="7075440"/>
              <a:ext cx="4874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32760" y="7075440"/>
              <a:ext cx="4442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46760" y="7075440"/>
              <a:ext cx="486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29440" y="7075440"/>
              <a:ext cx="5173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26160" y="7075440"/>
              <a:ext cx="5032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87960" y="7075440"/>
              <a:ext cx="538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87840" y="7075440"/>
              <a:ext cx="600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77000" y="6740280"/>
              <a:ext cx="487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32760" y="6740280"/>
              <a:ext cx="444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6760" y="6740280"/>
              <a:ext cx="4860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29440" y="6740280"/>
              <a:ext cx="51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26160" y="6740280"/>
              <a:ext cx="5032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87960" y="6740280"/>
              <a:ext cx="5382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87840" y="6740280"/>
              <a:ext cx="600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77000" y="6410160"/>
              <a:ext cx="48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57960" y="6410160"/>
              <a:ext cx="419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46760" y="6410160"/>
              <a:ext cx="486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29440" y="6410160"/>
              <a:ext cx="51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26160" y="6410160"/>
              <a:ext cx="503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87960" y="6410160"/>
              <a:ext cx="538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87840" y="6410160"/>
              <a:ext cx="600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77000" y="6078240"/>
              <a:ext cx="487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32760" y="6078240"/>
              <a:ext cx="4442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53240" y="6078240"/>
              <a:ext cx="4856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29440" y="6078240"/>
              <a:ext cx="517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29400" y="6078240"/>
              <a:ext cx="5029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87960" y="6078240"/>
              <a:ext cx="5382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87840" y="6078240"/>
              <a:ext cx="6001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87840" y="5637240"/>
              <a:ext cx="357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87840" y="641016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87840" y="674028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87840" y="707544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87840" y="740700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87840" y="773892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87840" y="807084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87840" y="840564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87840" y="8735760"/>
              <a:ext cx="3576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83000" y="5637240"/>
              <a:ext cx="0" cy="30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00600" y="5624280"/>
              <a:ext cx="0" cy="311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5329080" y="5649840"/>
              <a:ext cx="6120" cy="30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846760" y="5649840"/>
              <a:ext cx="0" cy="30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51840" y="5630760"/>
              <a:ext cx="0" cy="31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72400" y="5630760"/>
              <a:ext cx="0" cy="310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87840" y="6078240"/>
              <a:ext cx="357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81360" y="5056200"/>
              <a:ext cx="98748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p/Cha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664160" y="528300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87840" y="5030640"/>
              <a:ext cx="3581280" cy="477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11600" y="8773920"/>
              <a:ext cx="6735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13200" y="5359320"/>
              <a:ext cx="5803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e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45280" y="5560920"/>
              <a:ext cx="9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75240" y="5349600"/>
              <a:ext cx="9187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imato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32480" y="5554440"/>
              <a:ext cx="10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70560" y="5700600"/>
              <a:ext cx="508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853320" y="5707080"/>
              <a:ext cx="4874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rm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v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807080" y="6086160"/>
              <a:ext cx="514440" cy="114120"/>
              <a:chOff x="4807080" y="6086160"/>
              <a:chExt cx="514440" cy="114120"/>
            </a:xfrm>
          </p:grpSpPr>
          <p:sp>
            <p:nvSpPr>
              <p:cNvPr id="466" name=""/>
              <p:cNvSpPr/>
              <p:nvPr/>
            </p:nvSpPr>
            <p:spPr>
              <a:xfrm>
                <a:off x="4807080" y="620028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58000" y="60861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4807080" y="6418080"/>
              <a:ext cx="514440" cy="114120"/>
              <a:chOff x="4807080" y="6418080"/>
              <a:chExt cx="514440" cy="114120"/>
            </a:xfrm>
          </p:grpSpPr>
          <p:sp>
            <p:nvSpPr>
              <p:cNvPr id="469" name=""/>
              <p:cNvSpPr/>
              <p:nvPr/>
            </p:nvSpPr>
            <p:spPr>
              <a:xfrm>
                <a:off x="4807080" y="653220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58000" y="641808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4807080" y="6750000"/>
              <a:ext cx="514440" cy="114120"/>
              <a:chOff x="4807080" y="6750000"/>
              <a:chExt cx="514440" cy="114120"/>
            </a:xfrm>
          </p:grpSpPr>
          <p:sp>
            <p:nvSpPr>
              <p:cNvPr id="472" name=""/>
              <p:cNvSpPr/>
              <p:nvPr/>
            </p:nvSpPr>
            <p:spPr>
              <a:xfrm>
                <a:off x="4807080" y="686412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58000" y="675000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807080" y="7081560"/>
              <a:ext cx="514440" cy="114120"/>
              <a:chOff x="4807080" y="7081560"/>
              <a:chExt cx="514440" cy="114120"/>
            </a:xfrm>
          </p:grpSpPr>
          <p:sp>
            <p:nvSpPr>
              <p:cNvPr id="475" name=""/>
              <p:cNvSpPr/>
              <p:nvPr/>
            </p:nvSpPr>
            <p:spPr>
              <a:xfrm>
                <a:off x="4807080" y="719568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58000" y="70815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4807080" y="7414920"/>
              <a:ext cx="514440" cy="114120"/>
              <a:chOff x="4807080" y="7414920"/>
              <a:chExt cx="514440" cy="114120"/>
            </a:xfrm>
          </p:grpSpPr>
          <p:sp>
            <p:nvSpPr>
              <p:cNvPr id="478" name=""/>
              <p:cNvSpPr/>
              <p:nvPr/>
            </p:nvSpPr>
            <p:spPr>
              <a:xfrm>
                <a:off x="4807080" y="752904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58000" y="74149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4807080" y="7746840"/>
              <a:ext cx="514440" cy="114120"/>
              <a:chOff x="4807080" y="7746840"/>
              <a:chExt cx="514440" cy="114120"/>
            </a:xfrm>
          </p:grpSpPr>
          <p:sp>
            <p:nvSpPr>
              <p:cNvPr id="481" name=""/>
              <p:cNvSpPr/>
              <p:nvPr/>
            </p:nvSpPr>
            <p:spPr>
              <a:xfrm>
                <a:off x="4807080" y="786096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58000" y="774684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807080" y="8078760"/>
              <a:ext cx="514440" cy="114120"/>
              <a:chOff x="4807080" y="8078760"/>
              <a:chExt cx="514440" cy="114120"/>
            </a:xfrm>
          </p:grpSpPr>
          <p:sp>
            <p:nvSpPr>
              <p:cNvPr id="484" name=""/>
              <p:cNvSpPr/>
              <p:nvPr/>
            </p:nvSpPr>
            <p:spPr>
              <a:xfrm>
                <a:off x="4807080" y="819288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58000" y="807876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811760" y="8412120"/>
              <a:ext cx="514440" cy="114120"/>
              <a:chOff x="4811760" y="8412120"/>
              <a:chExt cx="514440" cy="114120"/>
            </a:xfrm>
          </p:grpSpPr>
          <p:sp>
            <p:nvSpPr>
              <p:cNvPr id="487" name=""/>
              <p:cNvSpPr/>
              <p:nvPr/>
            </p:nvSpPr>
            <p:spPr>
              <a:xfrm>
                <a:off x="4811760" y="852624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62680" y="84121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19:04:19Z</dcterms:created>
  <dc:creator>Brian Lincoln</dc:creator>
  <dc:description/>
  <dc:language>en-US</dc:language>
  <cp:lastModifiedBy>Brian Lincoln</cp:lastModifiedBy>
  <dcterms:modified xsi:type="dcterms:W3CDTF">2014-07-20T19:46:11Z</dcterms:modified>
  <cp:revision>4</cp:revision>
  <dc:subject/>
  <dc:title>Slide 1</dc:title>
</cp:coreProperties>
</file>