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C68-34E8-428B-B0C4-DBC9BD45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C3C-B601-4D6C-A690-F34B8BA0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D67-1645-466C-B017-424D637D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3F4-83B1-4D20-811C-146A1297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EFE-7DF7-4098-A32B-60093464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7DB-9EA1-46D3-A53E-A6309615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C1C-5046-482F-954A-46FB67C5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414-D64C-4436-8DD7-BBBBE326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9DB-8625-4C49-BD9A-D5C498E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E33-E328-4373-86CD-01862FE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E6F-59A7-436F-A9AB-3CECD10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44E2-79ED-4767-8E29-91254F7F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4B68-850F-4E6D-99A6-0F31E256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48480" y="6078600"/>
            <a:ext cx="587160" cy="716040"/>
            <a:chOff x="7548480" y="6078600"/>
            <a:chExt cx="587160" cy="716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271" t="22179" r="0" b="22844"/>
            <a:stretch/>
          </p:blipFill>
          <p:spPr>
            <a:xfrm>
              <a:off x="7562160" y="607860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548480" y="627732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7548480" y="5265720"/>
            <a:ext cx="587160" cy="716040"/>
            <a:chOff x="7548480" y="5265720"/>
            <a:chExt cx="587160" cy="7160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49271" t="22179" r="0" b="22844"/>
            <a:stretch/>
          </p:blipFill>
          <p:spPr>
            <a:xfrm>
              <a:off x="7562160" y="526572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548480" y="546444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548480" y="4454640"/>
            <a:ext cx="587160" cy="715680"/>
            <a:chOff x="7548480" y="4454640"/>
            <a:chExt cx="587160" cy="71568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49271" t="22179" r="0" b="22844"/>
            <a:stretch/>
          </p:blipFill>
          <p:spPr>
            <a:xfrm>
              <a:off x="7562160" y="4454640"/>
              <a:ext cx="5734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548480" y="4653000"/>
              <a:ext cx="121680" cy="18648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548480" y="3641760"/>
            <a:ext cx="587160" cy="716040"/>
            <a:chOff x="7548480" y="3641760"/>
            <a:chExt cx="587160" cy="716040"/>
          </a:xfrm>
        </p:grpSpPr>
        <p:pic>
          <p:nvPicPr>
            <p:cNvPr id="51" name="" descr=""/>
            <p:cNvPicPr/>
            <p:nvPr/>
          </p:nvPicPr>
          <p:blipFill>
            <a:blip r:embed="rId4"/>
            <a:srcRect l="49271" t="22179" r="0" b="22844"/>
            <a:stretch/>
          </p:blipFill>
          <p:spPr>
            <a:xfrm>
              <a:off x="7562160" y="364176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48480" y="384048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548480" y="2830680"/>
            <a:ext cx="587160" cy="715680"/>
            <a:chOff x="7548480" y="2830680"/>
            <a:chExt cx="587160" cy="715680"/>
          </a:xfrm>
        </p:grpSpPr>
        <p:pic>
          <p:nvPicPr>
            <p:cNvPr id="54" name="" descr=""/>
            <p:cNvPicPr/>
            <p:nvPr/>
          </p:nvPicPr>
          <p:blipFill>
            <a:blip r:embed="rId5"/>
            <a:srcRect l="49271" t="22179" r="0" b="22844"/>
            <a:stretch/>
          </p:blipFill>
          <p:spPr>
            <a:xfrm>
              <a:off x="7562160" y="2830680"/>
              <a:ext cx="5734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548480" y="3029040"/>
              <a:ext cx="121680" cy="18648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548480" y="2017800"/>
            <a:ext cx="587160" cy="716040"/>
            <a:chOff x="7548480" y="2017800"/>
            <a:chExt cx="587160" cy="716040"/>
          </a:xfrm>
        </p:grpSpPr>
        <p:pic>
          <p:nvPicPr>
            <p:cNvPr id="57" name="" descr=""/>
            <p:cNvPicPr/>
            <p:nvPr/>
          </p:nvPicPr>
          <p:blipFill>
            <a:blip r:embed="rId6"/>
            <a:srcRect l="49271" t="22179" r="0" b="22844"/>
            <a:stretch/>
          </p:blipFill>
          <p:spPr>
            <a:xfrm>
              <a:off x="7562160" y="201780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548480" y="221652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548480" y="1206360"/>
            <a:ext cx="587160" cy="716040"/>
            <a:chOff x="7548480" y="1206360"/>
            <a:chExt cx="587160" cy="716040"/>
          </a:xfrm>
        </p:grpSpPr>
        <p:pic>
          <p:nvPicPr>
            <p:cNvPr id="60" name="" descr=""/>
            <p:cNvPicPr/>
            <p:nvPr/>
          </p:nvPicPr>
          <p:blipFill>
            <a:blip r:embed="rId7"/>
            <a:srcRect l="49271" t="22179" r="0" b="22844"/>
            <a:stretch/>
          </p:blipFill>
          <p:spPr>
            <a:xfrm>
              <a:off x="7562160" y="120636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548480" y="140508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548480" y="395280"/>
            <a:ext cx="587160" cy="716040"/>
            <a:chOff x="7548480" y="395280"/>
            <a:chExt cx="587160" cy="716040"/>
          </a:xfrm>
        </p:grpSpPr>
        <p:pic>
          <p:nvPicPr>
            <p:cNvPr id="63" name="" descr=""/>
            <p:cNvPicPr/>
            <p:nvPr/>
          </p:nvPicPr>
          <p:blipFill>
            <a:blip r:embed="rId8"/>
            <a:srcRect l="49271" t="22179" r="0" b="22844"/>
            <a:stretch/>
          </p:blipFill>
          <p:spPr>
            <a:xfrm>
              <a:off x="7562160" y="39528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48480" y="59400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9"/>
          <a:srcRect l="5635" t="15829" r="4226" b="15492"/>
          <a:stretch/>
        </p:blipFill>
        <p:spPr>
          <a:xfrm>
            <a:off x="1155600" y="1373040"/>
            <a:ext cx="3807000" cy="290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3760" y="3636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vo Recorder Player – System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6880" y="355680"/>
            <a:ext cx="346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. 7/19/14 BTL (Lightman)       Updated 9/15/14   Rev 4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8680" y="2185920"/>
            <a:ext cx="351000" cy="26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36560" y="330192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019160" y="1643040"/>
            <a:ext cx="1222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0640" y="4359240"/>
            <a:ext cx="723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t Used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" y="309240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rogramm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360" y="15066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7.5 VDC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760" y="5018040"/>
            <a:ext cx="2494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7.5 VDC covers all power needs except serv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arate Servo Power Supply required; Remove jumpers &amp; attach servo power to center p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eller loads program from EEPROM upon power up; IDE can download 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 Card contains 2 files 1) Servo Commands, 2) Profile for Serv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ts can be reversed by switching 5V and Gnd lines to p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o Cables contain Signal, +5V, G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6920" y="1225440"/>
            <a:ext cx="16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peller Activity 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86760" y="2036880"/>
            <a:ext cx="131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 Card Contai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o Comm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for Serv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1720" y="2265480"/>
            <a:ext cx="156960" cy="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343160" y="4165200"/>
            <a:ext cx="99684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rcRect l="47736" t="0" r="5564" b="4444"/>
          <a:stretch/>
        </p:blipFill>
        <p:spPr>
          <a:xfrm>
            <a:off x="2874960" y="5146560"/>
            <a:ext cx="514440" cy="768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rcRect l="47736" t="0" r="5564" b="4444"/>
          <a:stretch/>
        </p:blipFill>
        <p:spPr>
          <a:xfrm>
            <a:off x="3762360" y="5137200"/>
            <a:ext cx="514440" cy="768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rcRect l="47736" t="0" r="5564" b="4444"/>
          <a:stretch/>
        </p:blipFill>
        <p:spPr>
          <a:xfrm>
            <a:off x="4649760" y="5153040"/>
            <a:ext cx="514440" cy="76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rcRect l="47736" t="0" r="5564" b="4444"/>
          <a:stretch/>
        </p:blipFill>
        <p:spPr>
          <a:xfrm>
            <a:off x="5537160" y="5159520"/>
            <a:ext cx="514440" cy="76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802040" y="3700440"/>
            <a:ext cx="1000440" cy="1513080"/>
          </a:xfrm>
          <a:custGeom>
            <a:avLst/>
            <a:gdLst/>
            <a:ahLst/>
            <a:rect l="l" t="t" r="r" b="b"/>
            <a:pathLst>
              <a:path w="630" h="953">
                <a:moveTo>
                  <a:pt x="0" y="0"/>
                </a:moveTo>
                <a:cubicBezTo>
                  <a:pt x="73" y="46"/>
                  <a:pt x="336" y="171"/>
                  <a:pt x="436" y="274"/>
                </a:cubicBezTo>
                <a:cubicBezTo>
                  <a:pt x="536" y="377"/>
                  <a:pt x="566" y="506"/>
                  <a:pt x="598" y="619"/>
                </a:cubicBezTo>
                <a:cubicBezTo>
                  <a:pt x="630" y="732"/>
                  <a:pt x="623" y="884"/>
                  <a:pt x="630" y="953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0520" y="3703680"/>
            <a:ext cx="211320" cy="1496880"/>
          </a:xfrm>
          <a:custGeom>
            <a:avLst/>
            <a:gdLst/>
            <a:ahLst/>
            <a:rect l="l" t="t" r="r" b="b"/>
            <a:pathLst>
              <a:path w="133" h="943">
                <a:moveTo>
                  <a:pt x="0" y="0"/>
                </a:moveTo>
                <a:cubicBezTo>
                  <a:pt x="40" y="222"/>
                  <a:pt x="80" y="446"/>
                  <a:pt x="102" y="603"/>
                </a:cubicBezTo>
                <a:cubicBezTo>
                  <a:pt x="124" y="760"/>
                  <a:pt x="127" y="872"/>
                  <a:pt x="133" y="943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16520" y="3700440"/>
            <a:ext cx="609480" cy="1478160"/>
          </a:xfrm>
          <a:custGeom>
            <a:avLst/>
            <a:gdLst/>
            <a:ahLst/>
            <a:rect l="l" t="t" r="r" b="b"/>
            <a:pathLst>
              <a:path w="366" h="904">
                <a:moveTo>
                  <a:pt x="366" y="0"/>
                </a:moveTo>
                <a:cubicBezTo>
                  <a:pt x="246" y="188"/>
                  <a:pt x="126" y="376"/>
                  <a:pt x="65" y="527"/>
                </a:cubicBezTo>
                <a:cubicBezTo>
                  <a:pt x="4" y="678"/>
                  <a:pt x="2" y="791"/>
                  <a:pt x="0" y="904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6320" y="3700440"/>
            <a:ext cx="1478160" cy="1503360"/>
          </a:xfrm>
          <a:custGeom>
            <a:avLst/>
            <a:gdLst/>
            <a:ahLst/>
            <a:rect l="l" t="t" r="r" b="b"/>
            <a:pathLst>
              <a:path w="913" h="926">
                <a:moveTo>
                  <a:pt x="913" y="0"/>
                </a:moveTo>
                <a:cubicBezTo>
                  <a:pt x="599" y="208"/>
                  <a:pt x="286" y="417"/>
                  <a:pt x="143" y="571"/>
                </a:cubicBezTo>
                <a:cubicBezTo>
                  <a:pt x="0" y="725"/>
                  <a:pt x="28" y="825"/>
                  <a:pt x="57" y="926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92520" y="1962000"/>
            <a:ext cx="122400" cy="1516320"/>
          </a:xfrm>
          <a:custGeom>
            <a:avLst/>
            <a:gdLst/>
            <a:ahLst/>
            <a:rect l="l" t="t" r="r" b="b"/>
            <a:pathLst>
              <a:path w="119" h="937">
                <a:moveTo>
                  <a:pt x="0" y="0"/>
                </a:moveTo>
                <a:cubicBezTo>
                  <a:pt x="53" y="153"/>
                  <a:pt x="107" y="307"/>
                  <a:pt x="113" y="463"/>
                </a:cubicBezTo>
                <a:cubicBezTo>
                  <a:pt x="119" y="619"/>
                  <a:pt x="78" y="778"/>
                  <a:pt x="38" y="937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05200" y="3470400"/>
            <a:ext cx="914400" cy="1760400"/>
          </a:xfrm>
          <a:custGeom>
            <a:avLst/>
            <a:gdLst/>
            <a:ahLst/>
            <a:rect l="l" t="t" r="r" b="b"/>
            <a:pathLst>
              <a:path w="576" h="1109">
                <a:moveTo>
                  <a:pt x="576" y="0"/>
                </a:moveTo>
                <a:cubicBezTo>
                  <a:pt x="473" y="83"/>
                  <a:pt x="370" y="167"/>
                  <a:pt x="280" y="269"/>
                </a:cubicBezTo>
                <a:cubicBezTo>
                  <a:pt x="190" y="371"/>
                  <a:pt x="76" y="473"/>
                  <a:pt x="38" y="613"/>
                </a:cubicBezTo>
                <a:cubicBezTo>
                  <a:pt x="0" y="753"/>
                  <a:pt x="24" y="931"/>
                  <a:pt x="49" y="110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35320" y="3706920"/>
            <a:ext cx="539640" cy="1519200"/>
          </a:xfrm>
          <a:custGeom>
            <a:avLst/>
            <a:gdLst/>
            <a:ahLst/>
            <a:rect l="l" t="t" r="r" b="b"/>
            <a:pathLst>
              <a:path w="340" h="957">
                <a:moveTo>
                  <a:pt x="340" y="0"/>
                </a:moveTo>
                <a:cubicBezTo>
                  <a:pt x="218" y="121"/>
                  <a:pt x="100" y="244"/>
                  <a:pt x="50" y="403"/>
                </a:cubicBezTo>
                <a:cubicBezTo>
                  <a:pt x="0" y="562"/>
                  <a:pt x="42" y="842"/>
                  <a:pt x="40" y="95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92600" y="3705120"/>
            <a:ext cx="442800" cy="1519200"/>
          </a:xfrm>
          <a:custGeom>
            <a:avLst/>
            <a:gdLst/>
            <a:ahLst/>
            <a:rect l="l" t="t" r="r" b="b"/>
            <a:pathLst>
              <a:path w="357" h="957">
                <a:moveTo>
                  <a:pt x="65" y="0"/>
                </a:moveTo>
                <a:cubicBezTo>
                  <a:pt x="32" y="146"/>
                  <a:pt x="0" y="292"/>
                  <a:pt x="41" y="417"/>
                </a:cubicBezTo>
                <a:cubicBezTo>
                  <a:pt x="82" y="542"/>
                  <a:pt x="265" y="663"/>
                  <a:pt x="311" y="753"/>
                </a:cubicBezTo>
                <a:cubicBezTo>
                  <a:pt x="357" y="843"/>
                  <a:pt x="338" y="900"/>
                  <a:pt x="320" y="95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49560" y="3724200"/>
            <a:ext cx="1122480" cy="1505160"/>
          </a:xfrm>
          <a:custGeom>
            <a:avLst/>
            <a:gdLst/>
            <a:ahLst/>
            <a:rect l="l" t="t" r="r" b="b"/>
            <a:pathLst>
              <a:path w="707" h="948">
                <a:moveTo>
                  <a:pt x="13" y="0"/>
                </a:moveTo>
                <a:cubicBezTo>
                  <a:pt x="6" y="121"/>
                  <a:pt x="0" y="242"/>
                  <a:pt x="54" y="330"/>
                </a:cubicBezTo>
                <a:cubicBezTo>
                  <a:pt x="109" y="418"/>
                  <a:pt x="234" y="500"/>
                  <a:pt x="339" y="528"/>
                </a:cubicBezTo>
                <a:cubicBezTo>
                  <a:pt x="444" y="556"/>
                  <a:pt x="563" y="524"/>
                  <a:pt x="624" y="594"/>
                </a:cubicBezTo>
                <a:cubicBezTo>
                  <a:pt x="685" y="664"/>
                  <a:pt x="696" y="806"/>
                  <a:pt x="707" y="9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4040" y="3710160"/>
            <a:ext cx="1927080" cy="1528560"/>
          </a:xfrm>
          <a:custGeom>
            <a:avLst/>
            <a:gdLst/>
            <a:ahLst/>
            <a:rect l="l" t="t" r="r" b="b"/>
            <a:pathLst>
              <a:path w="1280" h="963">
                <a:moveTo>
                  <a:pt x="2" y="0"/>
                </a:moveTo>
                <a:cubicBezTo>
                  <a:pt x="1" y="101"/>
                  <a:pt x="0" y="203"/>
                  <a:pt x="59" y="276"/>
                </a:cubicBezTo>
                <a:cubicBezTo>
                  <a:pt x="118" y="349"/>
                  <a:pt x="240" y="403"/>
                  <a:pt x="356" y="441"/>
                </a:cubicBezTo>
                <a:cubicBezTo>
                  <a:pt x="472" y="479"/>
                  <a:pt x="614" y="493"/>
                  <a:pt x="755" y="507"/>
                </a:cubicBezTo>
                <a:cubicBezTo>
                  <a:pt x="896" y="521"/>
                  <a:pt x="1112" y="497"/>
                  <a:pt x="1196" y="573"/>
                </a:cubicBezTo>
                <a:cubicBezTo>
                  <a:pt x="1280" y="649"/>
                  <a:pt x="1249" y="806"/>
                  <a:pt x="1262" y="96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28880" y="3481560"/>
            <a:ext cx="185760" cy="1728720"/>
          </a:xfrm>
          <a:custGeom>
            <a:avLst/>
            <a:gdLst/>
            <a:ahLst/>
            <a:rect l="l" t="t" r="r" b="b"/>
            <a:pathLst>
              <a:path w="117" h="1089">
                <a:moveTo>
                  <a:pt x="117" y="0"/>
                </a:moveTo>
                <a:cubicBezTo>
                  <a:pt x="82" y="106"/>
                  <a:pt x="48" y="213"/>
                  <a:pt x="30" y="354"/>
                </a:cubicBezTo>
                <a:cubicBezTo>
                  <a:pt x="12" y="495"/>
                  <a:pt x="0" y="727"/>
                  <a:pt x="6" y="849"/>
                </a:cubicBezTo>
                <a:cubicBezTo>
                  <a:pt x="12" y="971"/>
                  <a:pt x="40" y="1030"/>
                  <a:pt x="69" y="1089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05360" y="3471840"/>
            <a:ext cx="752400" cy="1743120"/>
          </a:xfrm>
          <a:custGeom>
            <a:avLst/>
            <a:gdLst/>
            <a:ahLst/>
            <a:rect l="l" t="t" r="r" b="b"/>
            <a:pathLst>
              <a:path w="474" h="1098">
                <a:moveTo>
                  <a:pt x="0" y="0"/>
                </a:moveTo>
                <a:cubicBezTo>
                  <a:pt x="1" y="101"/>
                  <a:pt x="2" y="203"/>
                  <a:pt x="42" y="285"/>
                </a:cubicBezTo>
                <a:cubicBezTo>
                  <a:pt x="82" y="367"/>
                  <a:pt x="179" y="418"/>
                  <a:pt x="243" y="492"/>
                </a:cubicBezTo>
                <a:cubicBezTo>
                  <a:pt x="307" y="566"/>
                  <a:pt x="388" y="628"/>
                  <a:pt x="426" y="729"/>
                </a:cubicBezTo>
                <a:cubicBezTo>
                  <a:pt x="464" y="830"/>
                  <a:pt x="469" y="964"/>
                  <a:pt x="474" y="109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0400" y="3471840"/>
            <a:ext cx="1548000" cy="1752480"/>
          </a:xfrm>
          <a:custGeom>
            <a:avLst/>
            <a:gdLst/>
            <a:ahLst/>
            <a:rect l="l" t="t" r="r" b="b"/>
            <a:pathLst>
              <a:path w="975" h="1104">
                <a:moveTo>
                  <a:pt x="0" y="0"/>
                </a:moveTo>
                <a:cubicBezTo>
                  <a:pt x="13" y="101"/>
                  <a:pt x="27" y="203"/>
                  <a:pt x="81" y="282"/>
                </a:cubicBezTo>
                <a:cubicBezTo>
                  <a:pt x="135" y="361"/>
                  <a:pt x="227" y="429"/>
                  <a:pt x="321" y="477"/>
                </a:cubicBezTo>
                <a:cubicBezTo>
                  <a:pt x="415" y="525"/>
                  <a:pt x="549" y="536"/>
                  <a:pt x="648" y="567"/>
                </a:cubicBezTo>
                <a:cubicBezTo>
                  <a:pt x="747" y="598"/>
                  <a:pt x="864" y="577"/>
                  <a:pt x="918" y="666"/>
                </a:cubicBezTo>
                <a:cubicBezTo>
                  <a:pt x="972" y="755"/>
                  <a:pt x="973" y="929"/>
                  <a:pt x="975" y="110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4720" y="5945040"/>
            <a:ext cx="581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t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DC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6800" y="5945040"/>
            <a:ext cx="581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t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DC 1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28880" y="5945040"/>
            <a:ext cx="581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t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DC 2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20960" y="5945040"/>
            <a:ext cx="581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t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ADC 3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63720" y="866880"/>
            <a:ext cx="898560" cy="757080"/>
          </a:xfrm>
          <a:custGeom>
            <a:avLst/>
            <a:gdLst/>
            <a:ahLst/>
            <a:rect l="l" t="t" r="r" b="b"/>
            <a:pathLst>
              <a:path w="432" h="423">
                <a:moveTo>
                  <a:pt x="432" y="423"/>
                </a:moveTo>
                <a:cubicBezTo>
                  <a:pt x="424" y="331"/>
                  <a:pt x="416" y="239"/>
                  <a:pt x="390" y="174"/>
                </a:cubicBezTo>
                <a:cubicBezTo>
                  <a:pt x="364" y="109"/>
                  <a:pt x="341" y="59"/>
                  <a:pt x="276" y="30"/>
                </a:cubicBezTo>
                <a:cubicBezTo>
                  <a:pt x="211" y="1"/>
                  <a:pt x="105" y="0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4360" y="1627200"/>
            <a:ext cx="816120" cy="652320"/>
          </a:xfrm>
          <a:custGeom>
            <a:avLst/>
            <a:gdLst/>
            <a:ahLst/>
            <a:rect l="l" t="t" r="r" b="b"/>
            <a:pathLst>
              <a:path w="514" h="411">
                <a:moveTo>
                  <a:pt x="0" y="4"/>
                </a:moveTo>
                <a:cubicBezTo>
                  <a:pt x="4" y="51"/>
                  <a:pt x="6" y="98"/>
                  <a:pt x="21" y="124"/>
                </a:cubicBezTo>
                <a:cubicBezTo>
                  <a:pt x="36" y="150"/>
                  <a:pt x="68" y="163"/>
                  <a:pt x="93" y="163"/>
                </a:cubicBezTo>
                <a:cubicBezTo>
                  <a:pt x="118" y="163"/>
                  <a:pt x="156" y="153"/>
                  <a:pt x="174" y="127"/>
                </a:cubicBezTo>
                <a:cubicBezTo>
                  <a:pt x="192" y="101"/>
                  <a:pt x="197" y="5"/>
                  <a:pt x="204" y="4"/>
                </a:cubicBezTo>
                <a:cubicBezTo>
                  <a:pt x="211" y="3"/>
                  <a:pt x="199" y="95"/>
                  <a:pt x="216" y="121"/>
                </a:cubicBezTo>
                <a:cubicBezTo>
                  <a:pt x="233" y="147"/>
                  <a:pt x="279" y="160"/>
                  <a:pt x="306" y="160"/>
                </a:cubicBezTo>
                <a:cubicBezTo>
                  <a:pt x="333" y="160"/>
                  <a:pt x="364" y="147"/>
                  <a:pt x="381" y="121"/>
                </a:cubicBezTo>
                <a:cubicBezTo>
                  <a:pt x="398" y="95"/>
                  <a:pt x="403" y="8"/>
                  <a:pt x="411" y="4"/>
                </a:cubicBezTo>
                <a:cubicBezTo>
                  <a:pt x="419" y="0"/>
                  <a:pt x="417" y="56"/>
                  <a:pt x="429" y="97"/>
                </a:cubicBezTo>
                <a:cubicBezTo>
                  <a:pt x="441" y="138"/>
                  <a:pt x="468" y="201"/>
                  <a:pt x="482" y="253"/>
                </a:cubicBezTo>
                <a:cubicBezTo>
                  <a:pt x="496" y="305"/>
                  <a:pt x="507" y="378"/>
                  <a:pt x="514" y="411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46440" y="1609560"/>
            <a:ext cx="42840" cy="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0" y="1609560"/>
            <a:ext cx="42840" cy="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94080" y="160668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56080" y="2190600"/>
            <a:ext cx="815760" cy="443160"/>
          </a:xfrm>
          <a:custGeom>
            <a:avLst/>
            <a:gdLst/>
            <a:ahLst/>
            <a:rect l="l" t="t" r="r" b="b"/>
            <a:pathLst>
              <a:path w="514" h="279">
                <a:moveTo>
                  <a:pt x="0" y="270"/>
                </a:moveTo>
                <a:cubicBezTo>
                  <a:pt x="71" y="274"/>
                  <a:pt x="142" y="279"/>
                  <a:pt x="204" y="248"/>
                </a:cubicBezTo>
                <a:cubicBezTo>
                  <a:pt x="266" y="217"/>
                  <a:pt x="318" y="123"/>
                  <a:pt x="370" y="82"/>
                </a:cubicBezTo>
                <a:cubicBezTo>
                  <a:pt x="422" y="41"/>
                  <a:pt x="468" y="20"/>
                  <a:pt x="514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739960"/>
            <a:ext cx="262080" cy="961920"/>
          </a:xfrm>
          <a:custGeom>
            <a:avLst/>
            <a:gdLst/>
            <a:ahLst/>
            <a:rect l="l" t="t" r="r" b="b"/>
            <a:pathLst>
              <a:path w="105" h="720">
                <a:moveTo>
                  <a:pt x="17" y="720"/>
                </a:moveTo>
                <a:cubicBezTo>
                  <a:pt x="17" y="623"/>
                  <a:pt x="0" y="256"/>
                  <a:pt x="15" y="136"/>
                </a:cubicBezTo>
                <a:cubicBezTo>
                  <a:pt x="30" y="16"/>
                  <a:pt x="86" y="28"/>
                  <a:pt x="10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38640" y="2371680"/>
            <a:ext cx="149040" cy="371520"/>
          </a:xfrm>
          <a:custGeom>
            <a:avLst/>
            <a:gdLst/>
            <a:ahLst/>
            <a:rect l="l" t="t" r="r" b="b"/>
            <a:pathLst>
              <a:path w="94" h="234">
                <a:moveTo>
                  <a:pt x="92" y="0"/>
                </a:moveTo>
                <a:cubicBezTo>
                  <a:pt x="79" y="12"/>
                  <a:pt x="24" y="43"/>
                  <a:pt x="12" y="72"/>
                </a:cubicBezTo>
                <a:cubicBezTo>
                  <a:pt x="0" y="101"/>
                  <a:pt x="6" y="147"/>
                  <a:pt x="20" y="174"/>
                </a:cubicBezTo>
                <a:cubicBezTo>
                  <a:pt x="34" y="201"/>
                  <a:pt x="79" y="222"/>
                  <a:pt x="94" y="23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21000" y="2286000"/>
            <a:ext cx="160560" cy="368280"/>
          </a:xfrm>
          <a:custGeom>
            <a:avLst/>
            <a:gdLst/>
            <a:ahLst/>
            <a:rect l="l" t="t" r="r" b="b"/>
            <a:pathLst>
              <a:path w="101" h="232">
                <a:moveTo>
                  <a:pt x="101" y="0"/>
                </a:moveTo>
                <a:cubicBezTo>
                  <a:pt x="71" y="6"/>
                  <a:pt x="36" y="16"/>
                  <a:pt x="21" y="40"/>
                </a:cubicBezTo>
                <a:cubicBezTo>
                  <a:pt x="6" y="64"/>
                  <a:pt x="0" y="114"/>
                  <a:pt x="13" y="146"/>
                </a:cubicBezTo>
                <a:cubicBezTo>
                  <a:pt x="26" y="178"/>
                  <a:pt x="83" y="214"/>
                  <a:pt x="101" y="2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2200" y="2517840"/>
            <a:ext cx="819360" cy="41040"/>
          </a:xfrm>
          <a:custGeom>
            <a:avLst/>
            <a:gdLst/>
            <a:ahLst/>
            <a:rect l="l" t="t" r="r" b="b"/>
            <a:pathLst>
              <a:path w="516" h="26">
                <a:moveTo>
                  <a:pt x="0" y="2"/>
                </a:moveTo>
                <a:cubicBezTo>
                  <a:pt x="24" y="1"/>
                  <a:pt x="49" y="0"/>
                  <a:pt x="100" y="0"/>
                </a:cubicBezTo>
                <a:cubicBezTo>
                  <a:pt x="151" y="0"/>
                  <a:pt x="237" y="0"/>
                  <a:pt x="306" y="4"/>
                </a:cubicBezTo>
                <a:cubicBezTo>
                  <a:pt x="375" y="8"/>
                  <a:pt x="445" y="17"/>
                  <a:pt x="516" y="2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4"/>
          <a:srcRect l="83748" t="19091" r="13814" b="74348"/>
          <a:stretch/>
        </p:blipFill>
        <p:spPr>
          <a:xfrm>
            <a:off x="4703760" y="2154240"/>
            <a:ext cx="103320" cy="27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5"/>
          <a:srcRect l="83748" t="19091" r="13814" b="74348"/>
          <a:stretch/>
        </p:blipFill>
        <p:spPr>
          <a:xfrm>
            <a:off x="4703760" y="2509920"/>
            <a:ext cx="103320" cy="277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332160" y="2517840"/>
            <a:ext cx="187200" cy="88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0" y="2608200"/>
            <a:ext cx="187560" cy="8892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640" y="2138400"/>
            <a:ext cx="293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1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64240" y="2468520"/>
            <a:ext cx="293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78400" y="14875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78320" y="14875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56200" y="1496880"/>
            <a:ext cx="88920" cy="2876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213516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16360" y="248760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57560" y="1496880"/>
            <a:ext cx="88920" cy="2876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32200" y="149868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15001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88400" y="39852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88400" y="61228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24480" y="1238400"/>
            <a:ext cx="3166920" cy="5230800"/>
          </a:xfrm>
          <a:custGeom>
            <a:avLst/>
            <a:gdLst/>
            <a:ahLst/>
            <a:rect l="l" t="t" r="r" b="b"/>
            <a:pathLst>
              <a:path w="1995" h="3295">
                <a:moveTo>
                  <a:pt x="0" y="170"/>
                </a:moveTo>
                <a:cubicBezTo>
                  <a:pt x="32" y="145"/>
                  <a:pt x="105" y="42"/>
                  <a:pt x="189" y="21"/>
                </a:cubicBezTo>
                <a:cubicBezTo>
                  <a:pt x="273" y="0"/>
                  <a:pt x="339" y="0"/>
                  <a:pt x="441" y="225"/>
                </a:cubicBezTo>
                <a:cubicBezTo>
                  <a:pt x="543" y="450"/>
                  <a:pt x="666" y="961"/>
                  <a:pt x="800" y="1373"/>
                </a:cubicBezTo>
                <a:cubicBezTo>
                  <a:pt x="934" y="1785"/>
                  <a:pt x="1118" y="2403"/>
                  <a:pt x="1247" y="2698"/>
                </a:cubicBezTo>
                <a:cubicBezTo>
                  <a:pt x="1376" y="2993"/>
                  <a:pt x="1450" y="3045"/>
                  <a:pt x="1575" y="3144"/>
                </a:cubicBezTo>
                <a:cubicBezTo>
                  <a:pt x="1700" y="3243"/>
                  <a:pt x="1908" y="3264"/>
                  <a:pt x="1995" y="3295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1128600"/>
            <a:ext cx="3217680" cy="4819680"/>
          </a:xfrm>
          <a:custGeom>
            <a:avLst/>
            <a:gdLst/>
            <a:ahLst/>
            <a:rect l="l" t="t" r="r" b="b"/>
            <a:pathLst>
              <a:path w="2027" h="3036">
                <a:moveTo>
                  <a:pt x="0" y="252"/>
                </a:moveTo>
                <a:cubicBezTo>
                  <a:pt x="45" y="214"/>
                  <a:pt x="165" y="48"/>
                  <a:pt x="270" y="24"/>
                </a:cubicBezTo>
                <a:cubicBezTo>
                  <a:pt x="375" y="0"/>
                  <a:pt x="487" y="45"/>
                  <a:pt x="603" y="288"/>
                </a:cubicBezTo>
                <a:cubicBezTo>
                  <a:pt x="719" y="531"/>
                  <a:pt x="831" y="1065"/>
                  <a:pt x="967" y="1483"/>
                </a:cubicBezTo>
                <a:cubicBezTo>
                  <a:pt x="1103" y="1901"/>
                  <a:pt x="1242" y="2558"/>
                  <a:pt x="1419" y="2797"/>
                </a:cubicBezTo>
                <a:cubicBezTo>
                  <a:pt x="1596" y="3036"/>
                  <a:pt x="1811" y="2975"/>
                  <a:pt x="2027" y="29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4880" y="981000"/>
            <a:ext cx="3467160" cy="4105440"/>
          </a:xfrm>
          <a:custGeom>
            <a:avLst/>
            <a:gdLst/>
            <a:ahLst/>
            <a:rect l="l" t="t" r="r" b="b"/>
            <a:pathLst>
              <a:path w="2184" h="2586">
                <a:moveTo>
                  <a:pt x="0" y="342"/>
                </a:moveTo>
                <a:cubicBezTo>
                  <a:pt x="71" y="290"/>
                  <a:pt x="288" y="60"/>
                  <a:pt x="429" y="30"/>
                </a:cubicBezTo>
                <a:cubicBezTo>
                  <a:pt x="570" y="0"/>
                  <a:pt x="673" y="39"/>
                  <a:pt x="798" y="291"/>
                </a:cubicBezTo>
                <a:cubicBezTo>
                  <a:pt x="923" y="543"/>
                  <a:pt x="1056" y="1185"/>
                  <a:pt x="1177" y="1541"/>
                </a:cubicBezTo>
                <a:cubicBezTo>
                  <a:pt x="1298" y="1897"/>
                  <a:pt x="1359" y="2272"/>
                  <a:pt x="1527" y="2429"/>
                </a:cubicBezTo>
                <a:cubicBezTo>
                  <a:pt x="1695" y="2586"/>
                  <a:pt x="2047" y="2472"/>
                  <a:pt x="2184" y="2483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88400" y="53038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88400" y="448632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88400" y="36687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88400" y="28512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8400" y="203364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12160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857160"/>
            <a:ext cx="3562200" cy="3348000"/>
          </a:xfrm>
          <a:custGeom>
            <a:avLst/>
            <a:gdLst/>
            <a:ahLst/>
            <a:rect l="l" t="t" r="r" b="b"/>
            <a:pathLst>
              <a:path w="2244" h="2109">
                <a:moveTo>
                  <a:pt x="0" y="402"/>
                </a:moveTo>
                <a:cubicBezTo>
                  <a:pt x="74" y="342"/>
                  <a:pt x="282" y="78"/>
                  <a:pt x="441" y="39"/>
                </a:cubicBezTo>
                <a:cubicBezTo>
                  <a:pt x="600" y="0"/>
                  <a:pt x="763" y="3"/>
                  <a:pt x="927" y="300"/>
                </a:cubicBezTo>
                <a:cubicBezTo>
                  <a:pt x="1091" y="597"/>
                  <a:pt x="1209" y="1533"/>
                  <a:pt x="1428" y="1821"/>
                </a:cubicBezTo>
                <a:cubicBezTo>
                  <a:pt x="1647" y="2109"/>
                  <a:pt x="1944" y="2072"/>
                  <a:pt x="2244" y="2028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725400"/>
            <a:ext cx="3776760" cy="2638440"/>
          </a:xfrm>
          <a:custGeom>
            <a:avLst/>
            <a:gdLst/>
            <a:ahLst/>
            <a:rect l="l" t="t" r="r" b="b"/>
            <a:pathLst>
              <a:path w="2379" h="1662">
                <a:moveTo>
                  <a:pt x="0" y="497"/>
                </a:moveTo>
                <a:cubicBezTo>
                  <a:pt x="100" y="421"/>
                  <a:pt x="418" y="76"/>
                  <a:pt x="603" y="38"/>
                </a:cubicBezTo>
                <a:cubicBezTo>
                  <a:pt x="788" y="0"/>
                  <a:pt x="955" y="35"/>
                  <a:pt x="1113" y="269"/>
                </a:cubicBezTo>
                <a:cubicBezTo>
                  <a:pt x="1271" y="503"/>
                  <a:pt x="1337" y="1216"/>
                  <a:pt x="1548" y="1439"/>
                </a:cubicBezTo>
                <a:cubicBezTo>
                  <a:pt x="1759" y="1662"/>
                  <a:pt x="2206" y="1575"/>
                  <a:pt x="2379" y="161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95840" y="557280"/>
            <a:ext cx="3876480" cy="1923840"/>
          </a:xfrm>
          <a:custGeom>
            <a:avLst/>
            <a:gdLst/>
            <a:ahLst/>
            <a:rect l="l" t="t" r="r" b="b"/>
            <a:pathLst>
              <a:path w="2442" h="1212">
                <a:moveTo>
                  <a:pt x="0" y="597"/>
                </a:moveTo>
                <a:cubicBezTo>
                  <a:pt x="102" y="509"/>
                  <a:pt x="416" y="132"/>
                  <a:pt x="612" y="66"/>
                </a:cubicBezTo>
                <a:cubicBezTo>
                  <a:pt x="808" y="0"/>
                  <a:pt x="1038" y="24"/>
                  <a:pt x="1179" y="201"/>
                </a:cubicBezTo>
                <a:cubicBezTo>
                  <a:pt x="1320" y="378"/>
                  <a:pt x="1347" y="731"/>
                  <a:pt x="1557" y="900"/>
                </a:cubicBezTo>
                <a:cubicBezTo>
                  <a:pt x="1767" y="1069"/>
                  <a:pt x="2258" y="1147"/>
                  <a:pt x="2442" y="1212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95920" y="1589040"/>
            <a:ext cx="2867040" cy="925560"/>
          </a:xfrm>
          <a:custGeom>
            <a:avLst/>
            <a:gdLst/>
            <a:ahLst/>
            <a:rect l="l" t="t" r="r" b="b"/>
            <a:pathLst>
              <a:path w="1806" h="583">
                <a:moveTo>
                  <a:pt x="0" y="583"/>
                </a:moveTo>
                <a:cubicBezTo>
                  <a:pt x="257" y="531"/>
                  <a:pt x="515" y="480"/>
                  <a:pt x="702" y="394"/>
                </a:cubicBezTo>
                <a:cubicBezTo>
                  <a:pt x="889" y="308"/>
                  <a:pt x="941" y="128"/>
                  <a:pt x="1125" y="64"/>
                </a:cubicBezTo>
                <a:cubicBezTo>
                  <a:pt x="1309" y="0"/>
                  <a:pt x="1557" y="5"/>
                  <a:pt x="1806" y="10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1520" y="847800"/>
            <a:ext cx="2881440" cy="1328760"/>
          </a:xfrm>
          <a:custGeom>
            <a:avLst/>
            <a:gdLst/>
            <a:ahLst/>
            <a:rect l="l" t="t" r="r" b="b"/>
            <a:pathLst>
              <a:path w="1815" h="822">
                <a:moveTo>
                  <a:pt x="0" y="822"/>
                </a:moveTo>
                <a:cubicBezTo>
                  <a:pt x="221" y="791"/>
                  <a:pt x="442" y="761"/>
                  <a:pt x="609" y="651"/>
                </a:cubicBezTo>
                <a:cubicBezTo>
                  <a:pt x="776" y="541"/>
                  <a:pt x="801" y="270"/>
                  <a:pt x="1002" y="162"/>
                </a:cubicBezTo>
                <a:cubicBezTo>
                  <a:pt x="1203" y="54"/>
                  <a:pt x="1509" y="27"/>
                  <a:pt x="1815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3560" y="71928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 to +6 V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5200" y="3914640"/>
            <a:ext cx="5702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459320"/>
            <a:ext cx="10036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osition 1 or 2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9880" y="75240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erv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29200" y="9144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1006560"/>
            <a:ext cx="927000" cy="2751120"/>
          </a:xfrm>
          <a:custGeom>
            <a:avLst/>
            <a:gdLst/>
            <a:ahLst/>
            <a:rect l="l" t="t" r="r" b="b"/>
            <a:pathLst>
              <a:path w="584" h="1733">
                <a:moveTo>
                  <a:pt x="0" y="7"/>
                </a:moveTo>
                <a:cubicBezTo>
                  <a:pt x="65" y="18"/>
                  <a:pt x="314" y="0"/>
                  <a:pt x="393" y="71"/>
                </a:cubicBezTo>
                <a:cubicBezTo>
                  <a:pt x="472" y="142"/>
                  <a:pt x="484" y="268"/>
                  <a:pt x="474" y="432"/>
                </a:cubicBezTo>
                <a:cubicBezTo>
                  <a:pt x="464" y="596"/>
                  <a:pt x="358" y="876"/>
                  <a:pt x="334" y="1056"/>
                </a:cubicBezTo>
                <a:cubicBezTo>
                  <a:pt x="310" y="1236"/>
                  <a:pt x="323" y="1406"/>
                  <a:pt x="329" y="1514"/>
                </a:cubicBezTo>
                <a:cubicBezTo>
                  <a:pt x="335" y="1622"/>
                  <a:pt x="330" y="1671"/>
                  <a:pt x="372" y="1702"/>
                </a:cubicBezTo>
                <a:cubicBezTo>
                  <a:pt x="414" y="1733"/>
                  <a:pt x="540" y="1702"/>
                  <a:pt x="584" y="170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743040"/>
            <a:ext cx="88920" cy="426960"/>
          </a:xfrm>
          <a:custGeom>
            <a:avLst/>
            <a:gdLst>
              <a:gd name="textAreaLeft" fmla="*/ 56880 w 88920"/>
              <a:gd name="textAreaRight" fmla="*/ 89280 w 8892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7:36:35Z</dcterms:created>
  <dc:creator>Brian Lincoln</dc:creator>
  <dc:description/>
  <dc:language>en-US</dc:language>
  <cp:lastModifiedBy>Brian Lincoln</cp:lastModifiedBy>
  <dcterms:modified xsi:type="dcterms:W3CDTF">2014-09-15T22:08:37Z</dcterms:modified>
  <cp:revision>43</cp:revision>
  <dc:subject/>
  <dc:title>Slide 1</dc:title>
</cp:coreProperties>
</file>